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621C-9D99-4699-919A-B75C7A1FF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9852-DEE5-428F-85BD-189A31680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FE1F-F9D6-46CB-9FFB-FD5AB1CEE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528-CCA8-4184-82DE-D56CB702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BBD-DC47-4389-AE71-2A75BDCD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5EB-CF77-48FF-80BE-3F9846E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C2C-16CE-4F4B-8B6E-E06EB5D2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E90-AA6B-4610-8109-B4DD833B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330-8026-4FAC-9B76-B0C2BD80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7D5-C2CA-4EF6-8EFE-7AF7B41C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FA3-9640-4A09-8F27-BC282EE0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D7E-73B8-4550-8212-7DBC02F5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322-E725-4B8A-B2E3-196007A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E68-BC69-49BE-A938-00C6224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F90-7372-4655-9E4B-C478DDE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ECE-646A-4CBE-82EF-E09D1C933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thestoryofindia/gallery/photos/21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s of British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Complete the following tasks while reading the article titled “Colonial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lete the follow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ircle all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ighlight all EFFECTS of British Col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cord each effect in your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Label each effect with an E, S, or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 = Economic, S = Social, P = Pol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Access the power point titled “Impacts of British colonization – mi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Complete the Infrastructure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plete the Article Analysis (see me for an 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Begin the Timeline Assig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ccess the power point titled “Colonization Timelines – Directions and Resourc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ndu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Natural Resources – salt, spices, cot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ew Markets -  British East India Company controls all Indi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ages.encarta.msn.com/xrefmedia/sharemed/targets/images/pho/t045/T045035A.jpg"/>
          <p:cNvPicPr/>
          <p:nvPr/>
        </p:nvPicPr>
        <p:blipFill>
          <a:blip r:embed="rId2"/>
          <a:stretch/>
        </p:blipFill>
        <p:spPr>
          <a:xfrm>
            <a:off x="6858000" y="198108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 Placeholder 2" descr=""/>
          <p:cNvPicPr/>
          <p:nvPr/>
        </p:nvPicPr>
        <p:blipFill>
          <a:blip r:embed="rId2"/>
          <a:stretch/>
        </p:blipFill>
        <p:spPr>
          <a:xfrm>
            <a:off x="0" y="1736640"/>
            <a:ext cx="9144000" cy="5121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j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eriod of Indian history in which they were a British colon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343400"/>
            <a:ext cx="1752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lish baby girl being carried by two Indian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British colo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oken in 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dia is 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7" descr="719px-India_railways1909a.jpg"/>
          <p:cNvPicPr/>
          <p:nvPr/>
        </p:nvPicPr>
        <p:blipFill>
          <a:blip r:embed="rId2"/>
          <a:srcRect l="4615" t="4869" r="3075" b="5915"/>
          <a:stretch/>
        </p:blipFill>
        <p:spPr>
          <a:xfrm>
            <a:off x="4038480" y="228600"/>
            <a:ext cx="4953240" cy="4540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Excellen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ystem in urban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British buil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ports and railr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29000" t="0" r="0" b="0"/>
          <a:stretch/>
        </p:blipFill>
        <p:spPr>
          <a:xfrm>
            <a:off x="3733920" y="2209680"/>
            <a:ext cx="5410080" cy="464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0"/>
            <a:ext cx="5562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Extre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VE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most Indians are 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horrible living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rastructur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bs.org/thestoryofindia/gallery/photos/21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lick on the link be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lick “Explore the Topic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lick “Discussion Ques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e the next slide for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2057400"/>
            <a:ext cx="205740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410080"/>
            <a:ext cx="21337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4:40:15Z</dcterms:created>
  <dc:creator>Jason P Warnick</dc:creator>
  <dc:description/>
  <dc:language>en-US</dc:language>
  <cp:lastModifiedBy>CFISD</cp:lastModifiedBy>
  <dcterms:modified xsi:type="dcterms:W3CDTF">2009-03-25T12:46:13Z</dcterms:modified>
  <cp:revision>37</cp:revision>
  <dc:subject/>
  <dc:title>Impacts of British colonization</dc:title>
</cp:coreProperties>
</file>