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607E-209E-4C1F-853F-06321F1BF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3880-24D8-453C-87FB-DE0E9C654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850-DD0B-4F49-B59A-041B18740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F4A-8254-4158-A1C4-88ABBE2B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8F6-712A-4EF9-A231-8AD534A7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B93-04BD-4E97-87F2-DA1884A7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1CA-27BE-46C0-AD07-56C435E7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05E-AF72-4979-86AE-762107F7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3CA-FFCB-4DB3-8F5A-4AEE554D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C3F-6D7F-4601-97FD-CE57F7C3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686-68B0-4185-A3C1-DCFC7148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C73-B800-42C2-B5A5-0FB566D7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0E4-077C-4BEC-B149-678E686E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5E9-B7D4-4870-B11E-4649F06F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641-5CD7-4138-8460-6C6BCEB2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437-98E1-42A7-B364-39EE3B2CE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thestoryofindia/gallery/photos/21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s of British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ticle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Complete the following tasks while reading the article titled “Colonial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plete the follow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ircle all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ighlight all EFFECTS of British Col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cord each effect in your not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Label each effect with an E, S, or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 = Economic, S = Social, P = Pol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Access the power point titled “Impacts of British colonization – mi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Complete the Infrastructure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plete the Article Analysis (see me for an artic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Begin the Timeline Assig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ccess the power point titled “Colonization Timelines – Directions and Resourc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so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ndu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Natural Resources – salt, spices, cot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New Markets -  British East India Company controls all Indian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images.encarta.msn.com/xrefmedia/sharemed/targets/images/pho/t045/T045035A.jpg"/>
          <p:cNvPicPr/>
          <p:nvPr/>
        </p:nvPicPr>
        <p:blipFill>
          <a:blip r:embed="rId2"/>
          <a:stretch/>
        </p:blipFill>
        <p:spPr>
          <a:xfrm>
            <a:off x="6858000" y="198108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ext Placeholder 2" descr=""/>
          <p:cNvPicPr/>
          <p:nvPr/>
        </p:nvPicPr>
        <p:blipFill>
          <a:blip r:embed="rId2"/>
          <a:stretch/>
        </p:blipFill>
        <p:spPr>
          <a:xfrm>
            <a:off x="0" y="1736640"/>
            <a:ext cx="9144000" cy="5121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j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eriod of Indian history in which they were a British colon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343400"/>
            <a:ext cx="17524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lish baby girl being carried by two Indian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ffects of British colo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oken in In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dia is 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7" descr="719px-India_railways1909a.jpg"/>
          <p:cNvPicPr/>
          <p:nvPr/>
        </p:nvPicPr>
        <p:blipFill>
          <a:blip r:embed="rId2"/>
          <a:srcRect l="4615" t="4869" r="3075" b="5915"/>
          <a:stretch/>
        </p:blipFill>
        <p:spPr>
          <a:xfrm>
            <a:off x="4038480" y="228600"/>
            <a:ext cx="4953240" cy="4540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Excellen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ystem in urban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British buil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ports and railro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29000" t="0" r="0" b="0"/>
          <a:stretch/>
        </p:blipFill>
        <p:spPr>
          <a:xfrm>
            <a:off x="3733920" y="2209680"/>
            <a:ext cx="5410080" cy="4648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0"/>
            <a:ext cx="5562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. Extrem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VER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most Indians are 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horrible living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rastructur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bs.org/thestoryofindia/gallery/photos/21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lick on the link be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lick “Explore the Topic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lick “Discussion Ques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e the next slide for he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2057400"/>
            <a:ext cx="205740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410080"/>
            <a:ext cx="21337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4:40:15Z</dcterms:created>
  <dc:creator>Jason P Warnick</dc:creator>
  <dc:description/>
  <dc:language>en-US</dc:language>
  <cp:lastModifiedBy>CFISD</cp:lastModifiedBy>
  <dcterms:modified xsi:type="dcterms:W3CDTF">2009-03-25T12:46:13Z</dcterms:modified>
  <cp:revision>37</cp:revision>
  <dc:subject/>
  <dc:title>Impacts of British colonization</dc:title>
</cp:coreProperties>
</file>