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A7F-F780-402D-A1CE-4407A791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94E-6B2E-42B8-B3B6-C1616DD8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AD5-93D2-4889-933B-BB7621C5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C70-5E21-4AAC-AC51-2735A440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830-461D-4901-8CD3-64A1CC81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672-109F-42A6-BDB5-4B7C6473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EC6-A878-4471-8C97-5FB47011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BB9-FE3E-418D-BA3A-C72A79FE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411-1822-4729-B975-7D810D97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180-0B8A-479C-9DBD-57EA6D64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431-777F-4C86-A947-04A9BD11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CDD-6DE0-4F7E-88A0-E327EA66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E39A-830A-412D-8C16-B5CB98024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and Pul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Diffus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US and Cana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y have people come to the United States from other count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people leave on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ove to an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people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44197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ush Factors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4572000"/>
            <a:ext cx="3504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ll Factor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facto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thing b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ushes people from their original count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an example of something that is a push factor for 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0" y="495288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4952880"/>
            <a:ext cx="45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shortage of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facto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thing g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ulls people to new countr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an example of something that is a push factor for 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0" y="495288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4952880"/>
            <a:ext cx="3353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133720"/>
          <a:ext cx="8229600" cy="434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ecu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treating a person or group of people extremely poorl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xamples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sh and Pull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143000"/>
          <a:ext cx="8229600" cy="4616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overnment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oney, jobs, business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uff people need to surviv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57200" y="251460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343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59092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59092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/Pull Chart Word 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43:36Z</dcterms:created>
  <dc:creator>CFISD</dc:creator>
  <dc:description/>
  <dc:language>en-US</dc:language>
  <cp:lastModifiedBy>CFISD</cp:lastModifiedBy>
  <dcterms:modified xsi:type="dcterms:W3CDTF">2008-10-21T16:30:13Z</dcterms:modified>
  <cp:revision>4</cp:revision>
  <dc:subject/>
  <dc:title>Immigration</dc:title>
</cp:coreProperties>
</file>