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87F12-83F5-4BD8-97C8-99B094FF4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8F38D-64F3-4B4B-9007-5F0416EB1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4FC7B-9D02-4552-A9D6-22CB9C4F0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62DAB-CB50-4DEA-B5EE-9941A1C7D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ECA66-64F6-4037-8E10-4CF65357B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A70BB-9287-4D11-A9E5-DF92120E2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E829F-A2AA-4748-9CB2-C16603FAC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CF2AB-7884-4E25-96E9-0A7E867F7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E35CD-3FBA-4AC7-BA9C-6F1B3DE1B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229BF-1142-4E10-9639-DB905DA80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0E4EB-BE90-407D-955C-0DCD5C616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A83E5-C301-4B47-9F92-CB600F60B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bde1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7ABF4-D6E7-4D3A-B54F-A99F1CE919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bde1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mig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sh and Pull Fac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bde1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able of Cont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457200" y="1295280"/>
          <a:ext cx="8229600" cy="5156280"/>
        </p:xfrm>
        <a:graphic>
          <a:graphicData uri="http://schemas.openxmlformats.org/drawingml/2006/table">
            <a:tbl>
              <a:tblPr/>
              <a:tblGrid>
                <a:gridCol w="1600200"/>
                <a:gridCol w="4572000"/>
                <a:gridCol w="2057400"/>
              </a:tblGrid>
              <a:tr h="642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sson #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/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atial Diffusion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5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/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rban Geograph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/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pulation Distribu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*US and Canada*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/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ver Page/Ma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/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gio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/2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mmigr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" name="Line 41"/>
          <p:cNvSpPr/>
          <p:nvPr/>
        </p:nvSpPr>
        <p:spPr>
          <a:xfrm>
            <a:off x="457200" y="3886200"/>
            <a:ext cx="82296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bde1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p 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Why have people come to the United States from other countrie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bde1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837720"/>
            <a:ext cx="8229600" cy="52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migration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hen people leave on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ountr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move to anoth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do people do th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685800" y="4419720"/>
            <a:ext cx="327672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808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Push Factors</a:t>
            </a:r>
            <a:endParaRPr b="0" lang="en-US" sz="1800" spc="1" strike="noStrike">
              <a:ln w="0">
                <a:noFill/>
              </a:ln>
              <a:solidFill>
                <a:srgbClr val="808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5105520" y="4572000"/>
            <a:ext cx="350496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Pull Factors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bde1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sh factors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omething ba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at pushes people from their original country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sk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Give an example of something that is a push factor for immigr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5029200" y="4952880"/>
            <a:ext cx="3962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Job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04920" y="4952880"/>
            <a:ext cx="45720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A shortage of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bde1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ll factors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omething goo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at pulls people to new countries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sk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Give an example of something that is a push factor for immigr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0" y="4952880"/>
            <a:ext cx="3962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Job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838080" y="4952880"/>
            <a:ext cx="335304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Man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bde1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457200" y="2133720"/>
          <a:ext cx="8229600" cy="43430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216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secution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finition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treating a person or group of people extremely poorly.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7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Examples (provide 2 in addition to mine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acis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Sket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8" name=""/>
          <p:cNvSpPr/>
          <p:nvPr/>
        </p:nvSpPr>
        <p:spPr>
          <a:xfrm>
            <a:off x="1523880" y="0"/>
            <a:ext cx="647712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Frayer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rections: Complete the task described in each box for the word Persecution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bde1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ush and Pull Facto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143000"/>
          <a:ext cx="8229600" cy="461628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252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litical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government)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conomic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money, jobs, businesse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cial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stuff people need to survive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" name=""/>
          <p:cNvSpPr/>
          <p:nvPr/>
        </p:nvSpPr>
        <p:spPr>
          <a:xfrm>
            <a:off x="457200" y="2514600"/>
            <a:ext cx="25146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sh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sh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ll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ll 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4343400"/>
            <a:ext cx="822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29000" y="2590920"/>
            <a:ext cx="25146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sh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sh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ll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ll 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2590920"/>
            <a:ext cx="25146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sh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sh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ll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ll 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bde1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sh/Pull Chart Word Ban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1T15:43:36Z</dcterms:created>
  <dc:creator>CFISD</dc:creator>
  <dc:description/>
  <dc:language>en-US</dc:language>
  <cp:lastModifiedBy>CFISD</cp:lastModifiedBy>
  <dcterms:modified xsi:type="dcterms:W3CDTF">2008-10-21T16:30:13Z</dcterms:modified>
  <cp:revision>4</cp:revision>
  <dc:subject/>
  <dc:title>Immigration</dc:title>
</cp:coreProperties>
</file>