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19A-9DD7-4363-8792-758DBE6B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BDED-AC2A-4BAC-B9F5-2AAC124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76D-67CA-45A2-B464-A51C701B9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561-8F75-43B1-88B4-8800EDDB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B31E-7E30-4BEB-84D1-86FE8417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4B47-6C6B-4599-9408-31BB6520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AF8-5BE4-45AB-99F5-7CF5FAE0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C73E-9841-4DFB-9DF1-5823C7C5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8D7-F94D-4710-98A8-16CD6929D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7F6-2080-43FD-A8CD-6AF669D2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BE5-52B9-4952-8FEB-8305346E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FC84-557B-48B8-9BEE-57705E69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E6E4D-2D4D-4B3A-9FF8-53A8A3656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have people come to the United States from other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eople leave 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4197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ush Factors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45720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ll Facto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shes people from their original count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4952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shortag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lls people to new count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4952880"/>
            <a:ext cx="3353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ecu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treating a person or group of people extremely poor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ernmen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ey, jobs, busines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ff people need to surv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251460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/Pull Chart 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43:36Z</dcterms:created>
  <dc:creator>CFISD</dc:creator>
  <dc:description/>
  <dc:language>en-US</dc:language>
  <cp:lastModifiedBy>CFISD</cp:lastModifiedBy>
  <dcterms:modified xsi:type="dcterms:W3CDTF">2008-10-21T16:30:13Z</dcterms:modified>
  <cp:revision>4</cp:revision>
  <dc:subject/>
  <dc:title>Immigration</dc:title>
</cp:coreProperties>
</file>