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8756-D56E-4AEA-9F7B-FF410DBD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B503-BA43-41A2-B0AB-D04A8420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7460-913F-460A-B328-5AC3B6503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BC3-2BEA-488D-8B40-E134A9AB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8C33-3CD0-4CA3-910D-3EEFEC76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3D6-7718-466D-B1DF-AF2CC2320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E025-7776-48D6-BDC4-4E6903A0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D7BE-F4DB-431A-8661-A68B021A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BA70-D741-4D40-97B1-545DDA0C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5BCA-5E32-4EA8-AFA7-F55FDD9D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D14D-D992-4A6A-90E5-FC54BC9A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2B95-F8EB-4FE1-BC92-8D80FF0C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586C-B634-412B-8E6B-32A01CF6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5FA4-3EF3-4A2C-B11B-04549EE9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269-40D3-4879-BBFD-43739321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9403-916F-4121-9FC8-9BA601F4B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E256A-4EA6-4BC8-8865-B3FBF8D5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6B1C5-ED79-4C2E-9BC0-927EFFBE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7960-A82B-432C-9AD4-37AC9490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69DC-D12C-47C8-84FD-DEFC44D2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EA210-5D5F-45AA-A849-02ADFB3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39D61-D19C-4FB9-95F9-FB22E01C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ED51-2890-4856-AE62-8DBF409C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08A78-2A22-4BC4-AC77-77F2E514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FDC73-52B7-42FD-8BF5-03FCE4DC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1D76E-6AA1-483C-B948-6AB5B835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52C6B-4A52-4BA2-AF30-96131B61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F876-774E-43BB-8972-13CC7076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386B0-6135-4730-BF56-C43DFB35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13E9-A53F-4F69-A948-652D6571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3208-DDB2-46F1-8AB0-80B36E1C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F5FD7-8E5A-4666-AC02-5B1F5E98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21020-5DAD-43B2-9D31-C304F4227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ADF-5C03-4219-AE76-32219A69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39739-8ED9-461D-A4A4-B3E0CC5A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C074-2F8C-4921-B7AB-CD3553C09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2916E-FEB7-4A02-A0A8-950F12CF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09465-01BC-4E9E-B10C-767D6D5F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EA92-A696-4EC8-BA8B-A910B8A9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0BE9D-6101-4436-B023-275C900C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93A50-D1AC-4B94-86E6-AD214949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281C0-50D3-43F3-849B-32F65D21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0378B-DA02-48EA-82C6-66A6F98E9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0EC6E-10B9-446B-9C35-40CBFE9A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EB9D-EA2C-4E28-886A-0D066D89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E5A1-5613-4874-A036-65677221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CED2-5FD2-4010-829A-0E47B30A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F36CF-0F82-40A7-A416-FCFDD916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7CD08-0AE0-4114-9DE2-DB2FC824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D559F-F2C0-4C85-8E49-E9E23014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53E3E-1B39-409E-971C-6CE29285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7CA87-998E-4972-8BBD-109AB684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7FEB9-A294-433F-8925-1D1CB78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2ADA-B256-4456-AFDE-7DDC7506C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02616-CD7E-45D6-89F5-CE59A39C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04D-D250-41B8-ADC1-233A221D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743E9-9810-4B2C-999A-F28EA571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855B-7B1D-4DDA-BEE1-0E83CBC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D178-B6E4-4965-9ACB-2BA87FE5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C987-CBED-4D46-9895-FA6DC44A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41EA-66D0-4A84-B12E-9F29DF790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2339-7ACF-41DE-9D06-851438FD83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3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3F30-31D0-4750-8E0F-50608B4B9F4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27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D1024-CE87-49FD-A501-47F97872642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3EAA1-2527-478A-BB0B-2086987E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04920" y="5410080"/>
            <a:ext cx="6324480" cy="1067040"/>
          </a:xfrm>
          <a:prstGeom prst="rect">
            <a:avLst/>
          </a:prstGeom>
          <a:solidFill>
            <a:srgbClr val="2b5481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-Environment Interaction, How do people adapt in Japa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447920"/>
            <a:ext cx="6476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arthquakes in East Asia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3505320"/>
            <a:ext cx="144792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7924320" y="1981080"/>
            <a:ext cx="68580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7391520" y="4495320"/>
            <a:ext cx="457200" cy="1219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Less developed areas buildings are on piling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lings are made of woo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600200" y="4343040"/>
            <a:ext cx="4038480" cy="2187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495680" y="1219320"/>
            <a:ext cx="4191120" cy="29145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80880" y="4038480"/>
            <a:ext cx="525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ummary Questions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problems that exist in East and Southeast Asia’s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have people in East and Southeast Asia modified or adapted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es economic development affect how the people of East and Southeast Asia are able to modify or adapt to their environ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is Japan affected by internal for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slands of Japan were created by the movement of plate tecton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active, Japan is affected by volcanic eruptions, earthquakes and tsuna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724280" y="2131920"/>
            <a:ext cx="3810240" cy="32022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648320" y="5370480"/>
            <a:ext cx="40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t. Fuji in Japan last erupted in 17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ing of F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map on pg. 662, which East Asian country has the greatest concentration of active volcano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swer this question in your noteboo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7238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2000" fill="hold"/>
                                        <p:tgtEl>
                                          <p:spTgt spid="2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p – Japan’s Tsunami Prev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is Japan attempting to prevent tsunam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is the role of the Pacific Tsunami Warning Ce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s Japan done to prepare for future earthquakes or tsunam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blished strict building co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ool children and adults participate every year in disaster drill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kyscrapers are built on gyroscopes (spring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sunami warning system in the Pacif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2670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Human Environment Interaction and Levels of Development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East and Southeast Asia people have to modify and adapt to the environmen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cations and adaptations are directly related to their economic developm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re developed the area the more advanced their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ess developed areas have less advanced adaptations/modifica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4191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ss developed areas use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rraced farming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arming on ledges, on the side of the hi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nting on slopes allows otherwise unproductive land to be use for farm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th developed and developing areas of the world use terraced farm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raditional farming techniques, little or no machiner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572000" y="1523880"/>
            <a:ext cx="4343400" cy="25369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343400" y="4173480"/>
            <a:ext cx="44197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ck of Arable Lan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re Developed areas use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and Reclamatio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Bringing the land, damaged from natural or human causes, back into use for growing trees or agricultural crop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ilongjiang Land Reclamation Project in China- cultivated land here was once either swamp or covered by scrubl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y important to ensuring China's food securit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s area is using the most advanced farming techniques and machines in the wor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dapting to Plate Tectonic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In more developed areas Skyscrapers are built on gyroscopes (springs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2171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648320" y="3922200"/>
            <a:ext cx="4038480" cy="21733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4343400" y="15238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0:29:58Z</dcterms:created>
  <dc:creator>Andrew Nixon</dc:creator>
  <dc:description/>
  <dc:language>en-US</dc:language>
  <cp:lastModifiedBy>CFISD</cp:lastModifiedBy>
  <dcterms:modified xsi:type="dcterms:W3CDTF">2009-04-07T12:25:36Z</dcterms:modified>
  <cp:revision>8</cp:revision>
  <dc:subject/>
  <dc:title>Slide 1</dc:title>
</cp:coreProperties>
</file>