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4DB-63D0-4A98-ABC1-BB62A5DD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733-4E70-4C47-8305-877BC1D1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21C-9A5D-4875-9ECC-A1327184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A4B-5FE2-44FD-884F-B616E3BF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CCA8-C0A5-4FBB-A679-AEC9F39F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E8B2-54C9-4CC8-8D0D-7434FEC9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DE9D-9079-4F1A-AB88-7AD1407A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7EB-ABD2-459C-8A1B-96D23085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3CEE-394C-4577-9E42-61E9F9A6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34D7-BF7D-4DF3-BC0B-EF7B18A0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ADD1-EB74-4EAF-A0AD-AD84798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07C-947E-4A1B-95D7-E1FEF72B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07EC-95DC-444C-AD26-A0557E1C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734-078B-4AC1-BDBF-7ED86AF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ABE3-BC21-405B-A1F3-1865D788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82E5-7125-4C32-95EC-00D0726D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CB6D-156F-4ABF-B8FF-ECBCB8DD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A61C-5779-4EED-BAAB-3238935E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BA83-18E2-442D-A2D3-ABA71F34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9D96-41CE-45B6-B44B-F45424AD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79FC-D967-4895-B24C-78761941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8B8C-1735-492B-A4F8-8569DB11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3AC-77D0-4D43-997D-2397F60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FA3B-746A-4755-8D6A-F9B33FA1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371F-1E3A-4434-ABD7-5FDC7BDD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2693-F1E8-477B-BE95-B2006070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CBEB-FAB4-49AA-9BCF-9146D318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373D-6C4B-4CD6-92AD-61E05B1E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7BE7-C632-4E35-9F43-09968D37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F4BF9-CF26-450A-9714-F09B64C8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C4BC2-45D0-4199-BC3A-9368B1CA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9F1F-7A34-4618-AFFE-622AD9CB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A26BE-F54F-4ED6-875B-4F1D3198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C49-1D69-4410-A751-6592BED1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52FA-8C71-41D5-822B-E1F56B85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7F9A1-28EA-436F-88B2-25EC0E55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95E3-A177-4E11-BC96-96FF1092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B5A4-9C03-46D2-81A0-9B625FD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52118-1611-4261-B297-AD44133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3B7B8-AFA7-469C-B54E-4534A322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9F7B-B5DB-4C76-A6E4-A10A5A11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72D4-1464-4387-BDA6-743BCF2D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DB63-468E-452F-9763-A4801B34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6FBA8-514D-4D0D-B97F-9BD6F7F3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A88-CFF2-451D-AD82-AC359B8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C50C2-BF82-4603-882E-1539CA91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71BF-5C81-4D6B-BDC6-D392B3FA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EF3B7-F669-43D8-9C3B-5ADED16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B68D8-DCB8-4C99-8981-03BF0A2E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6ADA-110E-4400-9641-4D374633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33B1D-463B-4F4F-A06C-EA42646D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A5183-9CB0-4A85-9D82-248D0638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99FB0-957C-4395-B4E6-98AC7754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A57BD-AE3C-4E1D-B5F4-D6592203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E3EB6-F6C6-41FD-A4D0-D43066A7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3CC-4C17-43D0-B703-EE24A964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9FA70-69B3-4F0F-97E2-B1687D54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E42-DF63-4921-A628-9C272E6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FDF-D438-40B7-8B78-7B7797F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20A-6621-4A5F-9C21-7B860CDB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85B5-35AD-4299-A164-86DFECFA1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4862-3B7A-4ECA-B7DB-E39E79653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DCF1-0095-4BB1-BAC5-BA5551A8C2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DFAC-EDFB-4C94-9303-5225F7927A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5F64-4DF2-48E8-89EC-1751118F5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5410080"/>
            <a:ext cx="6324480" cy="106704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-Environment Interaction, How do people adapt in Jap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44792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arthquakes in East Asia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3505320"/>
            <a:ext cx="144792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924320" y="1981080"/>
            <a:ext cx="68580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391520" y="4495320"/>
            <a:ext cx="45720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ss developed areas buildings are on pil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ilings are made of woo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0200" y="43430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495680" y="1219320"/>
            <a:ext cx="4191120" cy="2914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525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 Question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problems that exist in East and Southeast Asia’s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have people in East and Southeast Asia modified or adapted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economic development affect how the people of East and Southeast Asia are able to modify or adapt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Japan affected by internal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s of Japan were created by the movement of plate tecton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active, Japan is affected by volcanic eruptions, earthquakes and tsun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131920"/>
            <a:ext cx="3810240" cy="3202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48320" y="537048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Fuji in Japan last erupted in 17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ng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ap on pg. 662, which East Asian country has the greatest concentration of active volcan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swer this question in your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Japan’s Tsunami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Japan attempting to prevent tsunam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role of the Pacific Tsunami Warning Ce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s Japan done to prepare for future earthquakes or tsunam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d strict building co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hildren and adults participate every year in disaster dri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yscrapers are built on gyroscopes (spring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sunami warning system in the Pacif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uman Environment Interaction and Levels of Development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ast and Southeast Asia people have to modify and adapt to the enviro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s and adaptations are directly related to their economic develop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developed the area the more advanced their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ss developed areas have less advanced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developed areas us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raced farming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arming on ledges, on the side of the hi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ing on slopes allows otherwise unproductive land to be use for farm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developed and developing areas of the world use terraced farm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raditional farming techniques, little or no machiner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4343400" cy="2536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343400" y="4173480"/>
            <a:ext cx="4419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Developed areas us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nd Recla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Bringing the land, damaged from natural or human causes, back into use for growing trees or agricultural crop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ilongjiang Land Reclamation Project in China- cultivated land here was once either swamp or covered by scrub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y important to ensuring China's food secu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area is using the most advanced farming techniques and machines in the wor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more developed areas Skyscrapers are built on gyroscopes (springs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0:29:58Z</dcterms:created>
  <dc:creator>Andrew Nixon</dc:creator>
  <dc:description/>
  <dc:language>en-US</dc:language>
  <cp:lastModifiedBy>CFISD</cp:lastModifiedBy>
  <dcterms:modified xsi:type="dcterms:W3CDTF">2009-04-07T12:25:36Z</dcterms:modified>
  <cp:revision>8</cp:revision>
  <dc:subject/>
  <dc:title>Slide 1</dc:title>
</cp:coreProperties>
</file>