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05F5-EDF5-4D9D-9D8E-3244A34A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790-46E6-416A-8019-7D7FD2E8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C109-FC7C-41AE-B728-A80B7373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445-56F3-4BF5-8B45-5127C7C9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B78B-EC23-4937-B0A4-A9C02278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EF84-B65E-433F-99C7-EFFCBDBC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E149-010E-42F9-8F4B-ABD3570A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7725-520F-4053-92E4-B0AD4AA8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06FC-B9D9-4F64-8574-84C6BC07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845F-7691-471D-AAF4-24233134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2EF4-AA1B-4892-BEDA-4C6F7FC2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74D-439D-44F7-BB32-A7AD0788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CBA4-1FEB-4C22-A80D-9A533949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1EC-38BD-4046-B7AA-E0229179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357F-1473-47A0-81A3-2CF807CD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3005-B6BF-4CC9-836D-B9C092C7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1237-0636-41DD-B16A-6818BA62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A5008-3689-4FF4-B35B-B1B372DC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5A5E-4D0D-49AB-81CC-B67E780C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ADF15-FD6F-4E8C-A499-80D04BF7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03F7-18E5-4391-9879-5A7B8C7E7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17982-132F-49BC-AD84-8E543758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6044-69A4-41A3-BC5E-040CE98E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55D71-4AEC-490F-8215-7E2CB6B7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D6AA6-E826-40C8-B6C2-7FF8126D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A5FEB-BF63-4901-BB0B-5ABCA7F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88FF1-064D-41FA-83FE-C55EAD5B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4F1C6-B8CD-46F8-8E45-0592C46F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CAAD-F68A-4D46-83A5-3E53DA35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438DC-AB20-4C48-BBF4-DE1E64A3C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149B2-B96A-48C9-9C3E-68132027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D5CE-7F38-4BEB-8433-EC9FF2C4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4162A-CE01-4D73-8859-C0539B9E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B789-C23D-4C45-A1DB-E19EC3F2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BCCF4-2005-4070-A73E-6860FB04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EFB25-E2FF-4318-B1F9-41913A98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F5C3D-3DDD-4E7C-8365-2765C0BE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DF60-AD2B-40BF-906F-69EA0D35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11CA3-528C-4A5A-89DA-EBFEE3D3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26148-5267-42C6-A138-46E81B47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912CA-C45D-4B51-8DE3-7F3DF108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91EE-6F01-4BE7-BD8B-0AC9DBDDB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1DC29-55C2-47A4-95CF-E756D274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F2FEA-1EAA-447F-BBAE-58991064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D923-EF5C-4DC0-B56D-8EF1C581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FE23C-80CD-40EE-8344-07A234D4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C5CDB-3A9A-4516-B208-F9A2033E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1809E-E53A-487B-B7C3-7145BEDE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BECC0-0370-4AD6-BAA8-EF3C3E25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E321-133C-4109-B95C-32E043BE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CF70C-BE4A-4D9F-97F1-2A15EEF9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D768F-F1E0-4195-96A2-244871FD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00100-4680-480C-8266-4F4EAFA2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7DCBC-D143-44EC-8766-71B116759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BF2D8-B0D1-476D-AF99-7C035C0A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554-0570-4B26-9621-095CD774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2FABC-BFC5-43A9-ADD4-44A7D6F1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BB1-5E0E-4EF7-A15F-CBE75FC1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C74-EFBE-413B-9369-FB4B4F6C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CB5-91C6-4675-A572-9984D6BF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A1B9-A82C-461F-9A9B-6B91A2125E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F235-8FE7-41D0-B020-72F8869E9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386B-1C5A-4992-A343-02616926FC0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696B-2DAC-4FA4-9753-439311B9A95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3DE8-8E48-4842-BD4B-3269B897D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5410080"/>
            <a:ext cx="6324480" cy="106704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-Environment Interaction, How do people adapt in Jap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44792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arthquakes in East Asia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3505320"/>
            <a:ext cx="144792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924320" y="1981080"/>
            <a:ext cx="68580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391520" y="4495320"/>
            <a:ext cx="45720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ss developed areas buildings are on pil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ilings are made of woo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0200" y="43430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495680" y="1219320"/>
            <a:ext cx="4191120" cy="2914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525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 Question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problems that exist in East and Southeast Asia’s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have people in East and Southeast Asia modified or adapted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economic development affect how the people of East and Southeast Asia are able to modify or adapt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Japan affected by internal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s of Japan were created by the movement of plate tecton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active, Japan is affected by volcanic eruptions, earthquakes and tsun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131920"/>
            <a:ext cx="3810240" cy="3202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48320" y="537048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Fuji in Japan last erupted in 17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ng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ap on pg. 662, which East Asian country has the greatest concentration of active volcan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swer this question in your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Japan’s Tsunami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Japan attempting to prevent tsunam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role of the Pacific Tsunami Warning Ce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s Japan done to prepare for future earthquakes or tsunam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d strict building co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hildren and adults participate every year in disaster dri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yscrapers are built on gyroscopes (spring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sunami warning system in the Pacif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uman Environment Interaction and Levels of Development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ast and Southeast Asia people have to modify and adapt to the enviro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s and adaptations are directly related to their economic develop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developed the area the more advanced their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ss developed areas have less advanced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developed areas us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raced farming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arming on ledges, on the side of the hi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ing on slopes allows otherwise unproductive land to be use for farm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developed and developing areas of the world use terraced farm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raditional farming techniques, little or no machiner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4343400" cy="2536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343400" y="4173480"/>
            <a:ext cx="4419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Developed areas us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nd Recla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Bringing the land, damaged from natural or human causes, back into use for growing trees or agricultural crop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ilongjiang Land Reclamation Project in China- cultivated land here was once either swamp or covered by scrub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y important to ensuring China's food secu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area is using the most advanced farming techniques and machines in the wor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more developed areas Skyscrapers are built on gyroscopes (springs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0:29:58Z</dcterms:created>
  <dc:creator>Andrew Nixon</dc:creator>
  <dc:description/>
  <dc:language>en-US</dc:language>
  <cp:lastModifiedBy>CFISD</cp:lastModifiedBy>
  <dcterms:modified xsi:type="dcterms:W3CDTF">2009-04-07T12:25:36Z</dcterms:modified>
  <cp:revision>8</cp:revision>
  <dc:subject/>
  <dc:title>Slide 1</dc:title>
</cp:coreProperties>
</file>