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6231-600F-4949-8835-D363EAF5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B24-5AEE-4AE8-B650-A36B7D34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DB6-FC82-41F4-A245-23F4E9C8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E1E-CE8E-40DE-9DBC-9C1CE727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D9AE-FEBD-4626-89CC-9D1C2893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D008-3263-496A-9E67-47C3FE0C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4F40-0B81-48B7-A24D-FF3AB721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05EC-E1F6-454E-B7FF-331AD39F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1F2F-5863-4AA4-B5B1-792DF355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0C57-796F-4E92-9E0A-659EAA40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1966-6A66-485E-B053-842B300A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573-C697-494A-A58C-51387A74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D8E7-B6F7-441F-86B3-898AE9E7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D556-8971-4798-ACCF-338D0F39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48CC-BF87-4AF2-BF1E-F825EEBF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ACD9-6A7E-4ADF-B421-6F2FFB1D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051A-4B7C-4B75-A25A-2B4EDC3D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9DF3-6E05-436F-94A1-3EED0828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19DA-5DE4-4325-A12B-9E1F74E5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43E3B-DFFC-40BD-AA2F-FE84F813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BEEAC-D34D-4C9C-AC4D-A60C3CB5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E650B-4A34-46EC-9FA9-9BA9774F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997-77D2-437C-8864-AB0AD4C3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CB014-B1DB-4BA1-936A-5E797FB7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FB231-B432-49C0-B331-2A7C2E80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F2A4E-7242-4FE3-9E3E-4896BF09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ADC1D-A51A-4CF3-8779-5CA9EC9F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22FB4-3626-4AE8-84DA-8BD3627E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E0B1-F3E4-49BD-94A4-1BA5A242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DD079-2C46-40F4-BAFE-F3E2F868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002E2-9801-4DC3-93BD-12216640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96CFB-80DF-4B21-B6A8-66EBA6C7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E4D68-F397-4E6D-AF3E-11378E17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6A8-4A36-4FBC-BAFE-F40B7A29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FFB26-FEE3-41F2-9040-66E4CA4A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D40EE-5DC3-499C-9E68-4F0FA6E7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976EF-DCEC-4651-83C8-FA62360E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5345C-42C0-41AD-BF05-FE1E44F8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65EC0-31BE-4A4E-A054-E2802ADB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36BFD-06EF-4F96-8119-66B18B67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3E59E-C55A-4CF5-A286-E13E0CC5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35672-5E55-4234-9DED-94891A95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739F9-3ECB-4520-8916-FB8F3464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94746-CC4E-411B-B4DF-912B185B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4CD-B2D1-43D0-A87F-834A927D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43F2B-3EC0-4B39-98F0-50F47E3C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36EED-1620-4A38-8D91-D84264FC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46E1D-BE14-4485-B041-F21E6174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9CDFF-9ACF-45A8-A4E3-3344B573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35445-5572-4DBC-9EF8-BAFEC214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2DE69-3EA8-4046-97BB-3278BC89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3D673-190E-47A9-8C5E-9BD13BD8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454F-6D37-45AD-9A56-7F930022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F82BA-372B-46EC-BE3C-B06CC9B7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C33F6-A871-4A6B-8DD0-423B7F00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1FD-E1A5-4B86-9E67-35C72EA2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2E3AA-FCBB-460E-A8AD-AE84087D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526-BAED-4E0D-A7FB-5AE47889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E10-BA50-4FFB-BA91-51158911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97F-8B4B-474D-ADD5-FCDD0D0C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9C7A-664C-4E42-B499-B64070235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12A3-DE10-4F26-916F-400647792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D471-135D-4215-AF4F-B4F6802DE0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C305-749A-4FD4-8930-3DBF1197EB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F6B4-4523-413F-8B15-7C674F8AF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5410080"/>
            <a:ext cx="6324480" cy="106704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-Environment Interaction, How do people adapt in Jap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447920"/>
            <a:ext cx="647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arthquakes in East Asia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3505320"/>
            <a:ext cx="144792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924320" y="1981080"/>
            <a:ext cx="68580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7391520" y="4495320"/>
            <a:ext cx="45720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apting to Plate Tecton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ss developed areas buildings are on piling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ilings are made of woo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00200" y="43430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495680" y="1219320"/>
            <a:ext cx="4191120" cy="2914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80880" y="4038480"/>
            <a:ext cx="5257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mmary Question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problems that exist in East and Southeast Asia’s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have people in East and Southeast Asia modified or adapted to their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economic development affect how the people of East and Southeast Asia are able to modify or adapt to their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Japan affected by internal fo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lands of Japan were created by the movement of plate tecton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active, Japan is affected by volcanic eruptions, earthquakes and tsuna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131920"/>
            <a:ext cx="3810240" cy="3202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648320" y="537048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Fuji in Japan last erupted in 17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ng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map on pg. 662, which East Asian country has the greatest concentration of active volcano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swer this question in your not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72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– Japan’s Tsunami Pre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is Japan attempting to prevent tsunam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s the role of the Pacific Tsunami Warning Ce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s Japan done to prepare for future earthquakes or tsunam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ed strict building co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children and adults participate every year in disaster dri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yscrapers are built on gyroscopes (spring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sunami warning system in the Pacif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uman Environment Interaction and Levels of Development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East and Southeast Asia people have to modify and adapt to the environm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cations and adaptations are directly related to their economic develop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e developed the area the more advanced their adaptations/modific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ss developed areas have less advanced adaptations/modific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k of Arable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developed areas us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raced farming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arming on ledges, on the side of the hi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ing on slopes allows otherwise unproductive land to be use for farm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developed and developing areas of the world use terraced farm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raditional farming techniques, little or no machiner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4343400" cy="2536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343400" y="4173480"/>
            <a:ext cx="4419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k of Arable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Developed areas us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and Recla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Bringing the land, damaged from natural or human causes, back into use for growing trees or agricultural crop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ilongjiang Land Reclamation Project in China- cultivated land here was once either swamp or covered by scrub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ry important to ensuring China's food secur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area is using the most advanced farming techniques and machines in the wor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4724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apting to Plate Tectonic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more developed areas Skyscrapers are built on gyroscopes (springs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343400" y="1523880"/>
            <a:ext cx="4495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0:29:58Z</dcterms:created>
  <dc:creator>Andrew Nixon</dc:creator>
  <dc:description/>
  <dc:language>en-US</dc:language>
  <cp:lastModifiedBy>CFISD</cp:lastModifiedBy>
  <dcterms:modified xsi:type="dcterms:W3CDTF">2009-04-07T12:25:36Z</dcterms:modified>
  <cp:revision>8</cp:revision>
  <dc:subject/>
  <dc:title>Slide 1</dc:title>
</cp:coreProperties>
</file>