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105-55EE-4C46-BABD-3242049B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511-17F4-46C1-8E4F-6253F9CA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F4C-97E8-4BD5-8C96-1417E9FC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51C-1817-4684-9983-CC03864D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7D65-1465-4DEA-92A8-7D35EDCE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3074-0B28-4891-B3D6-C3D131E1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EF4A-4A75-4FF2-B237-B1290ECC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DE0F-E3FE-4895-BFD2-45196FD7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1D26-A343-47A3-B473-CC86B040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6B44-78F9-463F-98C6-446A6A51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5755-05C0-4B75-9121-4D2D8574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F94-50A6-4B60-A598-DCD638F8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68C8-F1D8-49AC-AEBE-352498E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1774-4C23-47D6-9207-C0063F7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5C7F-94F2-4046-AF29-303426A2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75E8-B733-47F2-8357-64936306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8EEC-EEF1-450A-84E7-44CBF78E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35256-1C6A-4FE6-B64E-9DF9E9A4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5B19-78A8-4EAF-99A7-39B12316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7C57-D7DB-4CCB-9307-7AC5DE2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97EF-58B6-4851-ABA0-D7D7E814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D42B-F1E7-4AA0-8A4E-8F8949DA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EF3-6F74-479D-82DA-BDDC633C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2FC2-61FA-4F8D-8189-45133FB0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9E2FF-0E75-4F8C-B812-2915BAF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577B-8AB9-44EC-8BDD-E0953A97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7C47-E1E7-4848-95A0-5CFEE0E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D045-051B-4364-88F3-3B93CE14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D4A63-75C6-4B07-BFDC-9C7C17E3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CAC1-08CC-4CFF-A3EB-A42BA024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A8C5-80BA-483D-B20C-842E1155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5DA9C-9998-42B4-988E-FEFDA89D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B5A2-EE70-4D0F-897B-FA24C195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F24-EBA1-4653-A6FE-746D7661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00BE-8996-4322-92E3-FD2AA118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8FE2-4463-4C72-BBF6-E5B92601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70BE9-7B71-43E9-AFBB-4EC6DD45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5B91-DFEA-48A3-967D-DE5E60D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863C-02F7-4C78-8DD0-5415165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D48DD-7891-411A-BA2E-7A2863A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FA68-998B-4E35-A150-37E1600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EF52-327D-4FCF-B0BE-918FD975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9091-CAA7-4F9C-BBB1-597EE392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95B3-A302-4E6E-B5C8-280B377D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282-5F68-49BC-B40B-15042642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12EF-584D-4AA9-80B8-9E6378E7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8E4C-3329-4C03-A2D2-FB44BC6C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D4CBE-3F64-459A-B4F0-198EEE20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FA6C3-5B3A-4DDA-A646-EB935862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21846-4F15-4722-B9EC-AA92A066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26FBC-4A5D-4992-A031-61C17770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E2870-220E-47DE-AE75-4A89FDC8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50B2E-CBCC-4F22-8305-505C6037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85055-EE2C-463B-B9C7-D1472AD8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DEDE-3688-40C1-BF24-E1403FCB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07A-4FD5-473B-87E4-29C938F9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EEEB-FB10-4C6C-B295-886CA7D1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D82-1149-4F59-BD3E-0FC7A119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629-B704-43E2-B4D3-F20AE9CD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25C-3EF7-4CA2-BB2C-D88F7D9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06B5-27C5-48F2-973A-CC219AF728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AF21-C048-4BE7-B7A3-7FF10DCBD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B89-9A90-400F-A2E2-04B6788473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D97D-6191-40BB-9B03-DC165958D9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7449-A765-4504-859E-CDF354FA0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5410080"/>
            <a:ext cx="6324480" cy="106704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-Environment Interaction, How do people adapt in Jap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44792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arthquakes in East Asia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3505320"/>
            <a:ext cx="144792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924320" y="1981080"/>
            <a:ext cx="68580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391520" y="4495320"/>
            <a:ext cx="45720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ss developed areas buildings are on pil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ilings are made of woo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0200" y="43430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495680" y="1219320"/>
            <a:ext cx="4191120" cy="2914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525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 Question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problems that exist in East and Southeast Asia’s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have people in East and Southeast Asia modified or adapted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economic development affect how the people of East and Southeast Asia are able to modify or adapt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Japan affected by internal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s of Japan were created by the movement of plate tecton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active, Japan is affected by volcanic eruptions, earthquakes and tsun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131920"/>
            <a:ext cx="3810240" cy="3202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48320" y="537048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Fuji in Japan last erupted in 17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ng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ap on pg. 662, which East Asian country has the greatest concentration of active volcan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swer this question in your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Japan’s Tsunami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Japan attempting to prevent tsunam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role of the Pacific Tsunami Warning Ce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s Japan done to prepare for future earthquakes or tsunam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d strict building co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hildren and adults participate every year in disaster dri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yscrapers are built on gyroscopes (spring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sunami warning system in the Pacif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uman Environment Interaction and Levels of Development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ast and Southeast Asia people have to modify and adapt to the enviro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s and adaptations are directly related to their economic develop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developed the area the more advanced their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ss developed areas have less advanced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developed areas us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raced farming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arming on ledges, on the side of the hi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ing on slopes allows otherwise unproductive land to be use for farm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developed and developing areas of the world use terraced farm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raditional farming techniques, little or no machiner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4343400" cy="2536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343400" y="4173480"/>
            <a:ext cx="4419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Developed areas us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nd Recla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Bringing the land, damaged from natural or human causes, back into use for growing trees or agricultural crop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ilongjiang Land Reclamation Project in China- cultivated land here was once either swamp or covered by scrub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y important to ensuring China's food secu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area is using the most advanced farming techniques and machines in the wor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more developed areas Skyscrapers are built on gyroscopes (springs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0:29:58Z</dcterms:created>
  <dc:creator>Andrew Nixon</dc:creator>
  <dc:description/>
  <dc:language>en-US</dc:language>
  <cp:lastModifiedBy>CFISD</cp:lastModifiedBy>
  <dcterms:modified xsi:type="dcterms:W3CDTF">2009-04-07T12:25:36Z</dcterms:modified>
  <cp:revision>8</cp:revision>
  <dc:subject/>
  <dc:title>Slide 1</dc:title>
</cp:coreProperties>
</file>