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2A7-8BAA-4913-81CD-7DEE4686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BB6-EAB7-487A-8DEE-013FADAA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E1D-3E3D-480C-A9A3-033840EC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0C8-2186-4CE9-A915-C7935C8D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CAD-38FA-4A3D-9A85-F61C9DE9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BF0-1CCC-48E3-99B0-CCA1C1FA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29C-05CA-4751-A188-4CE99352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753D-BFD9-403C-8308-C943C2E7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526-ED49-4EF9-B70F-C26E4137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260-DF79-404E-AACD-BECDE106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36B-E2C6-484E-98C6-6905924E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C3A-F108-4767-B635-CF1D49C6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CC72-6442-47ED-BF89-0362BF2FE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Finding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s are found on the server.  Use the following steps to get to them and pick one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lick My Compu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:) Student…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LD GEOGRAPHY VIDEO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Inserting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dd a text box and write the name for your vide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20833" t="91622" r="76391" b="6059"/>
          <a:stretch/>
        </p:blipFill>
        <p:spPr>
          <a:xfrm>
            <a:off x="304920" y="3124080"/>
            <a:ext cx="2189160" cy="1371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495288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is symbol to add a text bo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5486400"/>
            <a:ext cx="1828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nserting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ighlight the text and RIGHT click on it.  Choose Hyperl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nserting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048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Using the pull-down button, locate the videos.  Go thru the same sequence:  (T:) Student…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ud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ORLD GEOGRAPHY VIDEO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Click on the video you like and click 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video is on a website then you can hyperlink the website address or COPY and paste it into your power poi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your options for pic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PY and Paste them from the WORLD GEOGRAPHY VIDEOS folder.  There is a picture folder in t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ind your own online.  If your pictures are from online sources you must cite the source on your sl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eck out the power point called Project Pictures on my wiki.  This has the Jakota Triangle, Population Pyramids, and some other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1:54:54Z</dcterms:created>
  <dc:creator>CFISD</dc:creator>
  <dc:description/>
  <dc:language>en-US</dc:language>
  <cp:lastModifiedBy>CFISD</cp:lastModifiedBy>
  <dcterms:modified xsi:type="dcterms:W3CDTF">2009-04-23T12:35:38Z</dcterms:modified>
  <cp:revision>4</cp:revision>
  <dc:subject/>
  <dc:title>Project Help</dc:title>
</cp:coreProperties>
</file>