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2BB-1336-4346-9A4E-CD03B96C7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B16-7087-42C8-8C4B-A9E63FD5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E52-8454-4716-B3BF-E890B77C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9119-10D8-4638-8BAA-32E949AC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05D7-B215-477D-B66F-DB212C415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46D9-5FD0-424E-9A68-4B560E16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CED6-E846-4017-A18F-3478D334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918-C2AB-4C00-A143-CE27C405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2CAE-D2C4-41A9-B90B-B7678990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131D-C8D4-40E2-922F-CB4F05D6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F4FE-3CA6-4954-9089-7709AFF2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93D-0382-4BAF-BC9A-AFF9CE15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19B-4EB9-4095-9A1E-28E3DB32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Find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s are found on the server.  Use the following steps to get to them and pick one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lick My Computer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T:) Student…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dd a text box and write the name for your vide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5791320" cy="4343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rcRect l="20833" t="91622" r="76391" b="6059"/>
          <a:stretch/>
        </p:blipFill>
        <p:spPr>
          <a:xfrm>
            <a:off x="304920" y="3124080"/>
            <a:ext cx="218916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4952880"/>
            <a:ext cx="20574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is symbol to add a text box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548640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ighlight the text and RIGHT click on it.  Choose Hyperl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43200" y="10666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Inserting Vid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048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Using the pull-down button, locate the videos.  Go thru the same sequence:  (T:) Student…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ud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RLD GEOGRAPHY VIDEO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lick on the video you like and click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57600" y="17524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video is on a website then you can hyperlink the website address or COPY and paste it into your power poi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your options for pi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OPY and Paste them from the WORLD GEOGRAPHY VIDEOS folder.  There is a picture folder in ther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Find your own online.  If your pictures are from online sources you must cite the source on your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heck out the power point called Project Pictures on my wiki.  This has the Jakota Triangle, Population Pyramids, and some other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1:54:54Z</dcterms:created>
  <dc:creator>CFISD</dc:creator>
  <dc:description/>
  <dc:language>en-US</dc:language>
  <cp:lastModifiedBy>CFISD</cp:lastModifiedBy>
  <dcterms:modified xsi:type="dcterms:W3CDTF">2009-04-23T12:35:38Z</dcterms:modified>
  <cp:revision>4</cp:revision>
  <dc:subject/>
  <dc:title>Project Help</dc:title>
</cp:coreProperties>
</file>