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C93-130A-4EEB-97A0-5224FE32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8B1-3006-480D-8A23-C83C8ABF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7E16-FDC1-4ADA-8131-E1705429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56AB-989D-4A49-BF16-D7F1DE15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95A-DA29-4B95-B7EB-F2A35C00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818-8D30-4CBD-9151-1AD53392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A64A-F2AF-40C2-AFA7-CD6A7A8B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7EE-0106-4600-A3EE-6478AFE5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DB4-443C-4F64-853B-494230FD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BB5-1668-4668-965A-2A343F2B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BC4-F46A-43F5-9F30-8B0D870D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587-97AB-4AC6-BCC5-BDEA509A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07FD-DFAA-4856-A999-DB6EA1969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Finding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s are found on the server.  Use the following steps to get to them and pick one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lick My Compu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:) Student…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ud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LD GEOGRAPHY VIDEO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Inserting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dd a text box and write the name for your vide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20833" t="91622" r="76391" b="6059"/>
          <a:stretch/>
        </p:blipFill>
        <p:spPr>
          <a:xfrm>
            <a:off x="304920" y="3124080"/>
            <a:ext cx="2189160" cy="1371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495288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is symbol to add a text bo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5486400"/>
            <a:ext cx="1828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Inserting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ighlight the text and RIGHT click on it.  Choose Hyperl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Inserting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048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Using the pull-down button, locate the videos.  Go thru the same sequence:  (T:) Student…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ud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ORLD GEOGRAPHY VIDEO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Click on the video you like and click 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video is on a website then you can hyperlink the website address or COPY and paste it into your power poi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your options for pic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PY and Paste them from the WORLD GEOGRAPHY VIDEOS folder.  There is a picture folder in t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ind your own online.  If your pictures are from online sources you must cite the source on your sl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eck out the power point called Project Pictures on my wiki.  This has the Jakota Triangle, Population Pyramids, and some other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1:54:54Z</dcterms:created>
  <dc:creator>CFISD</dc:creator>
  <dc:description/>
  <dc:language>en-US</dc:language>
  <cp:lastModifiedBy>CFISD</cp:lastModifiedBy>
  <dcterms:modified xsi:type="dcterms:W3CDTF">2009-04-23T12:35:38Z</dcterms:modified>
  <cp:revision>4</cp:revision>
  <dc:subject/>
  <dc:title>Project Help</dc:title>
</cp:coreProperties>
</file>