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53B0-F296-464B-8638-1A67E2EA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81D7-EE8F-4F3E-9AC0-B0B70F56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F155-B6C0-4139-8432-B68DC3786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01FE-E721-4458-A0E7-697CE00A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45E9-993C-4A86-B73E-651E97E6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74E6-D8AB-474D-93C0-F4D23633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41F0-78B8-4EBC-9EAF-2B336DF1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7E9-1421-4DF1-B43B-B63099A2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45A0-DB10-418D-9BFC-1BEF2ADC2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E58-9E22-47A7-9133-E44E9619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462-BD0E-4DA7-8930-38307A80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FB37-59C8-48E7-9D36-BECF9BC1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0335-0A2B-4942-9572-719D90EF6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Finding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s are found on the server.  Use the following steps to get to them and pick one 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lick My Comput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:) Student…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ud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LD GEOGRAPHY VIDEO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Inserting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dd a text box and write the name for your vide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20833" t="91622" r="76391" b="6059"/>
          <a:stretch/>
        </p:blipFill>
        <p:spPr>
          <a:xfrm>
            <a:off x="304920" y="3124080"/>
            <a:ext cx="2189160" cy="1371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495288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is symbol to add a text bo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5486400"/>
            <a:ext cx="1828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Inserting 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ighlight the text and RIGHT click on it.  Choose Hyperl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Inserting 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048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Using the pull-down button, locate the videos.  Go thru the same sequence:  (T:) Student…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ud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ORLD GEOGRAPHY VIDEO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id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Click on the video you like and click 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video is on a website then you can hyperlink the website address or COPY and paste it into your power poi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your options for pic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PY and Paste them from the WORLD GEOGRAPHY VIDEOS folder.  There is a picture folder in t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ind your own online.  If your pictures are from online sources you must cite the source on your sl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heck out the power point called Project Pictures on my wiki.  This has the Jakota Triangle, Population Pyramids, and some other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1:54:54Z</dcterms:created>
  <dc:creator>CFISD</dc:creator>
  <dc:description/>
  <dc:language>en-US</dc:language>
  <cp:lastModifiedBy>CFISD</cp:lastModifiedBy>
  <dcterms:modified xsi:type="dcterms:W3CDTF">2009-04-23T12:35:38Z</dcterms:modified>
  <cp:revision>4</cp:revision>
  <dc:subject/>
  <dc:title>Project Help</dc:title>
</cp:coreProperties>
</file>