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D37-38EB-4B01-BF12-D3F5EE01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243-629A-4641-B85A-3B41C933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FA4-6B59-4016-BFD3-5D6C711C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A6D-3F4A-4DA7-8701-132ACD1B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508-0740-4F08-9F85-986F68B8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4D5-68A5-458E-891C-9BCC6C92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562-6D0B-4C27-B113-5F063408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C12-54C0-4599-AA01-5E9F44E7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F7C-3E9E-4D5A-9F01-228EBCB6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D22-16F7-4E23-8B76-134EA3C1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05F-8C41-44DA-95FD-E6F39131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EC6-DDC9-469B-ABFF-87C03499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E48A-277E-4FF4-88C3-BD96667B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nd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 are found on the server.  Use the following steps to get to them and pick one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lick My Compu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:) Student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dd a text box and write the name for your vide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0833" t="91622" r="76391" b="6059"/>
          <a:stretch/>
        </p:blipFill>
        <p:spPr>
          <a:xfrm>
            <a:off x="304920" y="3124080"/>
            <a:ext cx="2189160" cy="137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symbol to add a text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48640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ighlight the text and RIGHT click on it.  Choose Hyperl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48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Using the pull-down button, locate the videos.  Go thru the same sequence:  (T:) Student…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lick on the video you like and click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video is on a website then you can hyperlink the website address or COPY and paste it into your power poi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your options for pic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PY and Paste them from the WORLD GEOGRAPHY VIDEOS folder.  There is a picture folder in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nd your own online.  If your pictures are from online sources you must cite the source on your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eck out the power point called Project Pictures on my wiki.  This has the Jakota Triangle, Population Pyramids, and some other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1:54:54Z</dcterms:created>
  <dc:creator>CFISD</dc:creator>
  <dc:description/>
  <dc:language>en-US</dc:language>
  <cp:lastModifiedBy>CFISD</cp:lastModifiedBy>
  <dcterms:modified xsi:type="dcterms:W3CDTF">2009-04-23T12:35:38Z</dcterms:modified>
  <cp:revision>4</cp:revision>
  <dc:subject/>
  <dc:title>Project Help</dc:title>
</cp:coreProperties>
</file>