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6.wmf" ContentType="image/x-wmf"/>
  <Override PartName="/ppt/media/image11.png" ContentType="image/png"/>
  <Override PartName="/ppt/media/image19.jpeg" ContentType="image/jpeg"/>
  <Override PartName="/ppt/media/image7.jpeg" ContentType="image/jpeg"/>
  <Override PartName="/ppt/media/image23.wmf" ContentType="image/x-wmf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C5ED-0C32-4BA8-B611-E0ED7906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6AC-56FB-49A4-AC89-951EBA19E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10B-80D5-49F5-89A3-ADD2EAC55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4B8C-C638-4241-AFEE-3DF2981D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C54-05CF-4D88-B055-4A0B39F0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6248-2654-44F5-A0C7-F062E430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BE3-D673-4B34-A667-C637B1AC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CA41-9C9A-4973-9AE0-C252482B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AD1-4B86-4963-A3B4-53C8643A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9063-F665-4234-A485-24916C98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FCD2-FF34-4F73-B57C-63355FFE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9BBE-FDE5-4103-B550-229046BE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EF0D-5DE1-4212-B71D-BF9DB8416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and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shatriyas: Rulers, Warriors, or Land Own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86200" cy="4525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3276720" cy="2265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800600" y="3886200"/>
            <a:ext cx="38862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shatriyas: Rulers, Warriors, or Land Ow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2285640"/>
            <a:ext cx="350496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00800" y="2895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647676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isyas: Farmers and Mercha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647960" cy="3681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570120" cy="240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81480" y="4191120"/>
            <a:ext cx="365760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isyas: Farmers and Merch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3505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400800" y="2971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4004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10280" y="3962520"/>
            <a:ext cx="1524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70572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ras: Artisans and Labo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952880" cy="4267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05520" y="1450800"/>
            <a:ext cx="4038480" cy="264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5029200" y="4219560"/>
            <a:ext cx="3886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ras: Artisans and Labor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cord their jobs or positions in society on the triangle or next to the nam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0120" y="4038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00992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76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38880" y="3276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705720" y="41148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67480" y="4648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086240" y="48006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6290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6552720" y="28954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touchab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ouchables are outside the cas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st status in Indian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s and lif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ty jobs like sewage workers or cremating dead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e in extreme poverty or hom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733560" cy="2484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030640" y="3941640"/>
            <a:ext cx="380844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: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ase add the Untouchables on your graphic organiz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re class systems in the United St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group would be “untouchables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e caste system affect the daily lives of Hind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312408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297180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2971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476760" y="31240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3505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6781680" y="3657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4038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7009920" y="4343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81480" y="48006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touchabl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086600" y="3276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shatri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3886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isy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238880" y="4572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d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6552720" y="2895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53080" y="342900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781320" y="40384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009920" y="4800600"/>
            <a:ext cx="762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00600" y="55627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TOUCH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te System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passed laws to make the caste system il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 the caste system is a strong tradition held in Indian socie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truggle as India is trying to take steps towards moder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t of Hindu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Hinduism the cow is seen as a sacred anim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Hindus do not eat bee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105520" y="2133720"/>
            <a:ext cx="3352680" cy="2889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80880" y="6019920"/>
            <a:ext cx="82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csuchico.edu/~cheinz/syllabi/asst001/spring98/indi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5486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mages were taken fro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2057400"/>
            <a:ext cx="2667240" cy="24382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id these religions have in common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1779480"/>
            <a:ext cx="3048120" cy="1827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05520" y="1523880"/>
            <a:ext cx="3124080" cy="2146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219320" y="3882960"/>
            <a:ext cx="2819160" cy="20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105520" y="3882960"/>
            <a:ext cx="27432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turn to page 76 in you text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section on Hindu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ifferences exist between Hinduism and the religions of Southwest As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029200" y="1143000"/>
            <a:ext cx="2971800" cy="208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952880" y="3808440"/>
            <a:ext cx="2971800" cy="2146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48320" y="32004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urga: Goddess that kills dem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61722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6019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m: God born to free world from cruel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 in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to page 76 in your textbook and look at the map titled “World Religion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in a complete sentence: Which South Asian country has the largest percentage of Hindus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600200" y="3809880"/>
            <a:ext cx="662940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liefs in Hinduism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 Reincarn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ge 571-572 “Hinduism” to answer the following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is reincar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hat determines how a person is reincarn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is dhar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ste Syste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lease turn in your textbook to pg. 5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Use this page to help you complete the Caste System section of your worksheet.  This includes question #7 and the diagram question #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nduism: The Cast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st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82880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181480" y="19810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hmins: Priest and Schola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8320" y="15998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45720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304920" y="1600200"/>
            <a:ext cx="4262400" cy="4572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4573440" y="1600200"/>
            <a:ext cx="4170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ahmins: Priest and Schol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4114800" cy="33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ease record their jobs or positions in society on the triangle or next to th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2438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655308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76892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70572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AHM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00440" y="28954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1981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AST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4114800"/>
            <a:ext cx="358128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this represent high status or low statu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United States what group of people might be at the top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19720" y="914400"/>
            <a:ext cx="91440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6:57:54Z</dcterms:created>
  <dc:creator>cfisd</dc:creator>
  <dc:description/>
  <dc:language>en-US</dc:language>
  <cp:lastModifiedBy>CFISD</cp:lastModifiedBy>
  <dcterms:modified xsi:type="dcterms:W3CDTF">2009-03-23T12:50:34Z</dcterms:modified>
  <cp:revision>7</cp:revision>
  <dc:subject/>
  <dc:title>Hinduism and the Caste System</dc:title>
</cp:coreProperties>
</file>