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6.wmf" ContentType="image/x-wmf"/>
  <Override PartName="/ppt/media/image11.png" ContentType="image/png"/>
  <Override PartName="/ppt/media/image19.jpeg" ContentType="image/jpeg"/>
  <Override PartName="/ppt/media/image7.jpeg" ContentType="image/jpeg"/>
  <Override PartName="/ppt/media/image23.wmf" ContentType="image/x-wmf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.png" ContentType="image/png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A1D4-7288-4748-90AB-AEB360DE9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D811-EA21-49BA-B298-E87160F92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5F33-5850-4E5A-8F2F-9133588D2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5979-7DEC-441B-BF21-53D086D61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2313-B89B-4B3D-A651-EE7B5D4E3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0C5A-7A4B-4E4A-B6D3-27D5CFEBF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4553-FBD6-4B3D-8CE4-BE757F34B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DCFC-A61E-4DB3-B56A-E4D26EF16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8395-B525-4CC0-8BE0-69E3EC528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202D-09B3-4B7E-AD40-3A641891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5423-B217-4E51-B3AD-B1AAB89A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C029-C086-4BD3-8D27-A4C8D6AE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BF467-1B69-4B09-80E8-D64C53554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nduism and the Caste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shatriyas: Rulers, Warriors, or Land Owner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886200" cy="4525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952880" y="1523880"/>
            <a:ext cx="3276720" cy="2265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800600" y="3886200"/>
            <a:ext cx="38862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shatriyas: Rulers, Warriors, or Land Own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2285640"/>
            <a:ext cx="3504960" cy="33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Record their jobs or positions in society on the triangle or next to the name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24382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rahm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553080" y="2590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3124080"/>
            <a:ext cx="16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05720" y="297180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86600" y="29718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shatriy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6476760" y="312408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768920" y="1600200"/>
            <a:ext cx="3797280" cy="45259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105520" y="19810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CAST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05720" y="2743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RAHM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6400800" y="2895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934320" y="32767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shatriy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476760" y="35053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isyas: Farmers and Merchant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4647960" cy="3681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105520" y="1295280"/>
            <a:ext cx="3570120" cy="2401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181480" y="4191120"/>
            <a:ext cx="3657600" cy="24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isyas: Farmers and Mercha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35053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Record their jobs or positions in society on the triangle or next to the name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629400" y="24382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rahm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6553080" y="2590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629400" y="3124080"/>
            <a:ext cx="16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705720" y="297180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86600" y="29718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shatriy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6476760" y="312408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315200" y="350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aisy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6781680" y="3657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3797280" cy="452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105520" y="19810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CAST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2743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RAHM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934320" y="32767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shatriy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6400800" y="2971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640044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010280" y="3962520"/>
            <a:ext cx="1524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238880" y="40384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ais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670572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dras: Artisans and Labor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4952880" cy="42670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105520" y="1450800"/>
            <a:ext cx="4038480" cy="2641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5029200" y="4219560"/>
            <a:ext cx="388620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dras: Artisans and Labor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57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Record their jobs or positions in society on the triangle or next to the name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629400" y="24382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rahm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553080" y="2590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124080"/>
            <a:ext cx="16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705720" y="297180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86600" y="29718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shatriy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6476760" y="312408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315200" y="350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aisy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6781680" y="3657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620120" y="4038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d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7009920" y="4343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876920" y="1600200"/>
            <a:ext cx="3797280" cy="45259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105520" y="19810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CAST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2743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RAHM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238880" y="32767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shatriy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886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aisy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6705720" y="4114800"/>
            <a:ext cx="8380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467480" y="46483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d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7086240" y="4800600"/>
            <a:ext cx="7621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6629040" y="3505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6552720" y="28954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touchabl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ouchables are outside the cast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st status in Indian socie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bs and life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ty jobs like sewage workers or cremating dead bo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e in extreme poverty or homel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876920" y="1371600"/>
            <a:ext cx="3733560" cy="2484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5030640" y="3941640"/>
            <a:ext cx="380844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nduism: The Caste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62520" cy="33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ease add the Untouchables on your graphic organiz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re class systems in the United Stat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group would be “untouchables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the caste system affect the daily lives of Hind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629400" y="24382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rahm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6553080" y="2590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29400" y="3124080"/>
            <a:ext cx="16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705720" y="297180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086600" y="29718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shatriy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6476760" y="312408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350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aisy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6781680" y="3657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620120" y="4038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d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7009920" y="4343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81480" y="48006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ntouchabl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768920" y="1600200"/>
            <a:ext cx="3797280" cy="45259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105520" y="19810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CAST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0" y="2743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RAHM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086600" y="32767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shatriy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15200" y="3886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aisy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238880" y="45720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d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6552720" y="2895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6553080" y="3429000"/>
            <a:ext cx="6098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6781320" y="403848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7009920" y="4800600"/>
            <a:ext cx="7621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00600" y="556272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NTOUCH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aste System To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passed laws to make the caste system illeg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 the caste system is a strong tradition held in Indian socie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struggle as India is trying to take steps towards moder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t of Hind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Hinduism the cow is seen as a sacred anim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 Hindus do not eat bee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5105520" y="2133720"/>
            <a:ext cx="3352680" cy="2889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80880" y="6019920"/>
            <a:ext cx="823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www.csuchico.edu/~cheinz/syllabi/asst001/spring98/india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" y="54864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l images were taken fro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2057400"/>
            <a:ext cx="2667240" cy="243828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id these religions have in common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43000" y="1779480"/>
            <a:ext cx="3048120" cy="1827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105520" y="1523880"/>
            <a:ext cx="3124080" cy="2146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219320" y="3882960"/>
            <a:ext cx="2819160" cy="20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105520" y="3882960"/>
            <a:ext cx="27432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nduis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ase turn to page 76 in you textbo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the section on Hinduis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ifferences exist between Hinduism and the religions of Southwest Asi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029200" y="1143000"/>
            <a:ext cx="2971800" cy="2089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952880" y="3808440"/>
            <a:ext cx="2971800" cy="2146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648320" y="32004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ga: Goddess that kills dem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6172200"/>
            <a:ext cx="3352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24280" y="6019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am: God born to free world from cruel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nduism in the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 to page 76 in your textbook and look at the map titled “World Religions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 in a complete sentence: Which South Asian country has the largest percentage of Hindus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00200" y="3809880"/>
            <a:ext cx="6629400" cy="30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liefs in Hinduism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1 Reincarn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page 571-572 “Hinduism” to answer the following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What is reincarn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What determines how a person is reincarna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What is dharm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aste Syste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io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Please turn in your textbook to pg. 5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Use this page to help you complete the Caste System section of your worksheet.  This includes question #7 and the diagram question #8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nduism: The Caste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505320" cy="33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ste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76920" y="18288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CAST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768920" y="1600200"/>
            <a:ext cx="3797280" cy="4525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181480" y="19810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CAST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hmins: Priest and Schol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2187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2187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304920" y="1600200"/>
            <a:ext cx="4262400" cy="4572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4573440" y="1600200"/>
            <a:ext cx="4170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ahmins: Priest and Schol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114800" cy="33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ase record their jobs or positions in society on the triangle or next to the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29400" y="24382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rahm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6553080" y="2590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768920" y="1600200"/>
            <a:ext cx="3797280" cy="4525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705720" y="2743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RAHM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400440" y="2895480"/>
            <a:ext cx="6094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105520" y="19810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CAST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4114800"/>
            <a:ext cx="358128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uld this represent high status or low statu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United States what group of people might be at the top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4419720" y="914400"/>
            <a:ext cx="91440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16:57:54Z</dcterms:created>
  <dc:creator>cfisd</dc:creator>
  <dc:description/>
  <dc:language>en-US</dc:language>
  <cp:lastModifiedBy>CFISD</cp:lastModifiedBy>
  <dcterms:modified xsi:type="dcterms:W3CDTF">2009-03-23T12:50:34Z</dcterms:modified>
  <cp:revision>7</cp:revision>
  <dc:subject/>
  <dc:title>Hinduism and the Caste System</dc:title>
</cp:coreProperties>
</file>