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3.wmf" ContentType="image/x-wmf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E83-0BC7-4650-B028-1211DB81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2A6-FACD-41BE-9B36-88709F1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88F-7124-4B87-90B2-42E2C28F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B3E-CE1B-4F5F-899B-7E57C0A4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637-3C4A-4037-BE11-37ACF1FC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43C-9F13-4F37-90FF-DF016A00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EC7-6082-47C7-A205-D00AA6C1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564-8491-477A-9A6E-7D115D5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706-5C9D-476E-B7AC-45D60309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85B-2591-4329-A48E-81BDBE7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885-A810-43FF-823F-E23B7FE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9FA-DD4A-493C-A867-42B427F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10A9-6442-411D-BB77-6CD2FF3AB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and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276720" cy="226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350496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008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676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647960" cy="36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70120" cy="24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6576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505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008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4004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9625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7057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1450800"/>
            <a:ext cx="4038480" cy="264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29200" y="4219560"/>
            <a:ext cx="388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3276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705720" y="4114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8624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629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55272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ouch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ouchables are outside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status in Indian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nd lif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y jobs like sewage workers or cremating dead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in extreme poverty or hom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733560" cy="24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30640" y="3941640"/>
            <a:ext cx="38084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dd the Untouchables on your graphic organi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class systems in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roup would be “untouchable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caste system affect the daily lives of Hind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4572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5527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53080" y="34290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320" y="4038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0992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passed laws to make the caste system il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the caste system is a strong tradition held in Indi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truggle as India is trying to take steps towards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t of Hind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nduism the cow is seen as a sacred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Hindus do not eat be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352680" cy="2889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019920"/>
            <a:ext cx="82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csuchico.edu/~cheinz/syllabi/asst001/spring98/ind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mages were taken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057400"/>
            <a:ext cx="2667240" cy="2438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se religions have in common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779480"/>
            <a:ext cx="304812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19320" y="3882960"/>
            <a:ext cx="281916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388296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turn to page 76 in you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section on Hindu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fferences exist between Hinduism and the religions of Southwest 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2971800" cy="208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52880" y="3808440"/>
            <a:ext cx="2971800" cy="214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ga: Goddess that kills de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6172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6019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m: God born to free world from crue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76 in your textbook and look at the map titled “World Religion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n a complete sentence: Which South Asian country has the largest percentage of Hindu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66294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efs in Hinduism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Reincarn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ge 571-572 “Hinduism” to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reincar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determines how a person is reincar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dha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ease turn in your textbook to pg. 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se this page to help you complete the Caste System section of your worksheet.  This includes question #7 and the diagram question #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828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81480" y="1981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42624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573440" y="1600200"/>
            <a:ext cx="4170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11480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record their jobs or positions in society on the triangle or next to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00440" y="2895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114800"/>
            <a:ext cx="35812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this represent high status or low stat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United States what group of people might be at the t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19720" y="914400"/>
            <a:ext cx="9144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57:54Z</dcterms:created>
  <dc:creator>cfisd</dc:creator>
  <dc:description/>
  <dc:language>en-US</dc:language>
  <cp:lastModifiedBy>CFISD</cp:lastModifiedBy>
  <dcterms:modified xsi:type="dcterms:W3CDTF">2009-03-23T12:50:34Z</dcterms:modified>
  <cp:revision>7</cp:revision>
  <dc:subject/>
  <dc:title>Hinduism and the Caste System</dc:title>
</cp:coreProperties>
</file>