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3.wmf" ContentType="image/x-wmf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26D-A2A7-4B70-BC27-2310DB3C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3EB-93C4-4A15-9496-83D638DA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AD1-D1D7-4EB7-AD62-198356DD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4B99-86B0-445A-ABEF-080D6FED2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8280-1EFB-4736-B6B0-71A7A9AD0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31DE-D2D0-48AB-A2BE-CDA42795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FDB7-84CD-4614-9C2F-21E52ACE9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8FB5-3638-426F-8654-A924F6FC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F27D-678E-4E61-B424-6C70A26C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96B1-F191-4E16-BC90-1772681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59B4-859D-4EA1-94F4-88253D4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2C01-CDB1-4B81-867B-5081D172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E19B-3928-4E78-9E7F-AE71321FF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and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276720" cy="226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350496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008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4796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70120" cy="24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6576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008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004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9625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1450800"/>
            <a:ext cx="403848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29200" y="4219560"/>
            <a:ext cx="388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276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05720" y="4114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8624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29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55272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ouch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ouchables are outside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status in Indian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nd lif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jobs like sewage workers or cremating dead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in extreme poverty or hom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733560" cy="24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8084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dd the Untouchables on your graphic organi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ass systems 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roup would be “untouchab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caste system affect the daily lives of Hind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4572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5527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53080" y="34290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320" y="4038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0992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passed laws to make the caste system il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the caste system is a strong tradition held in Indi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truggle as India is trying to take steps towards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t of Hind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nduism the cow is seen as a sacred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Hindus do not eat be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352680" cy="2889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019920"/>
            <a:ext cx="82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suchico.edu/~cheinz/syllabi/asst001/spring98/ind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mages were taken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057400"/>
            <a:ext cx="2667240" cy="2438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se religions have in common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779480"/>
            <a:ext cx="304812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3882960"/>
            <a:ext cx="281916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388296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turn to page 76 in you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ection on Hindu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exist between Hinduism and the religions of Southwest 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2971800" cy="208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52880" y="3808440"/>
            <a:ext cx="2971800" cy="214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ga: Goddess that kills de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6019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m: God born to free world from crue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76 in your textbook and look at the map titled “World Religion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a complete sentence: Which South Asian country has the largest percentage of Hindu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6629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s in Hinduism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Reincar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ge 571-572 “Hinduism” to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reincar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etermines how a person is reincar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dha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ease turn in your textbook to pg. 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se this page to help you complete the Caste System section of your worksheet.  This includes question #7 and the diagram question #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828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1981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42624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573440" y="1600200"/>
            <a:ext cx="417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1148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cord their jobs or positions in society on the triangle or next to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00440" y="2895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114800"/>
            <a:ext cx="35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this represent high status or low stat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United States what group of people might be at the t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19720" y="914400"/>
            <a:ext cx="914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57:54Z</dcterms:created>
  <dc:creator>cfisd</dc:creator>
  <dc:description/>
  <dc:language>en-US</dc:language>
  <cp:lastModifiedBy>CFISD</cp:lastModifiedBy>
  <dcterms:modified xsi:type="dcterms:W3CDTF">2009-03-23T12:50:34Z</dcterms:modified>
  <cp:revision>7</cp:revision>
  <dc:subject/>
  <dc:title>Hinduism and the Caste System</dc:title>
</cp:coreProperties>
</file>