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2ED9-7B59-4B26-9826-BCD7297F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356-669D-4A16-AACA-16EDF3E5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CBE5-366D-4C2F-98C2-58BE4CA5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81BA-9D28-41A1-BAF8-B76660F0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F1B1-957E-4FA5-B836-7ED1B053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974-9B17-4A07-8ECB-37A7F4FD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A740-1E95-441C-B3C3-97BA4C86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C05-8F16-4CC6-9BA3-F928818B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DD04-8428-4783-8FAC-56938C0B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2DE6-0830-4C4E-88A4-C3CD51A3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B3BF-E293-42B6-AF80-DFB585B1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246-8564-4847-AD3D-C5327CEA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149E-F8F7-4F27-86AF-596FF1B17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brary.osu.edu/sites/guides/chicagogd.php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iefs of Hindu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swer the Question of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re is no mobility in the Caste System; once you are born into a caste you must st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oes a class system exist in the US? Explain why or why n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s there class mobility in the US? Explain why or why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nduism T-shirts - 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e One – Cast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clude a slogan explaining the Cast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clude a picture representing the Cas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e Two – Hinduism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clude a slogan explaining Dharma, Karma, or Reincar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clude a picture representing Dha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-shirt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carnation – Practicing good behavior for 27 years to someday be reborn into a higher Cas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724280" y="1676520"/>
            <a:ext cx="3657240" cy="3961800"/>
            <a:chOff x="4724280" y="1676520"/>
            <a:chExt cx="3657240" cy="39618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rcRect l="35065" t="35639" r="53762" b="32450"/>
            <a:stretch/>
          </p:blipFill>
          <p:spPr>
            <a:xfrm>
              <a:off x="4724280" y="1676520"/>
              <a:ext cx="3657240" cy="39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rcRect l="15127" t="6527" r="12947" b="4351"/>
            <a:stretch/>
          </p:blipFill>
          <p:spPr>
            <a:xfrm>
              <a:off x="6424920" y="2097720"/>
              <a:ext cx="894600" cy="101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m-up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762120"/>
          <a:ext cx="8458200" cy="6048360"/>
        </p:xfrm>
        <a:graphic>
          <a:graphicData uri="http://schemas.openxmlformats.org/drawingml/2006/table">
            <a:tbl>
              <a:tblPr/>
              <a:tblGrid>
                <a:gridCol w="1957320"/>
                <a:gridCol w="3054240"/>
                <a:gridCol w="344664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 of the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m-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ree traditional beliefs of Hinduism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EXIT TICKE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Untouchables (Dalits) are left out of the Caste Syste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indu dietary restrictions forbid Hindus from eating beef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nduism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Dhar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each person is born into a caste and has a certain moral duty specific to that c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eincar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the rebirth of souls after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nduism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Kar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if you behave responsibly you will be reborn into a higher caste and eventually reach eternal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Q’s - Untouch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list of discrimination towards Dalits (Untouchables) that you observe in the rural vil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eral Pyres Read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ow many Hindus die each day in Indi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ist the two other negative effects of the cremation rituals in India. Sketch each negative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enuded forests = defor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is the benefit of cremation and sprinkling your ashes in the Ganges Riv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hat are the three positive aspects of electric crem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eral Pyres Read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ow many Hindus die each day in Indi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ist the two other negative effects of the cremation rituals in India. Sketch each negative effect. (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gra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enuded forests = defor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is the benefit of cremation and sprinkling your ashes in the Ganges River? (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gra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hat are the three positive aspects of electric cremation? (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grap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ndu River of Redemption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Complete a 3-2-1 on the reading in your note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e three things you lear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e two questions you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e one sentence answering the question belo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negative effects of traditions in the Hindu reli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-2-1 Homework 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Using online sources find the answers to the questions you wrote in the “2” section of the 3-2-1 assig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Record your answ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ite each sour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resources below to assist you in your citations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ibrary.osu.edu/sites/guides/chicagogd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2:27:18Z</dcterms:created>
  <dc:creator>CFISD</dc:creator>
  <dc:description/>
  <dc:language>en-US</dc:language>
  <cp:lastModifiedBy>CFISD</cp:lastModifiedBy>
  <dcterms:modified xsi:type="dcterms:W3CDTF">2009-03-24T14:15:03Z</dcterms:modified>
  <cp:revision>14</cp:revision>
  <dc:subject/>
  <dc:title>Hinduism and the Caste System</dc:title>
</cp:coreProperties>
</file>