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EFC0-A58A-4735-BEE4-CF9A602CA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89DD-785B-4BD7-8C7E-3664B343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6602-2025-4143-93C6-B19F660B6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48C4-2739-4A5D-899B-06C659043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8E8C-CBE1-4771-9E33-51A4B53A8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FE4E-8F87-4167-B0A3-B7F8A72C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A619-2739-49DE-A2DB-8F2E0A80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2606-972E-4909-8C7E-9C1CFB84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7DA4-0CE2-46EA-AB56-4D3B7542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BCE6-FBAD-4A18-AB66-940332BA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3CB5-70C1-444C-B0B0-86FD641F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89A0-4C77-4202-93CB-160042AF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CC0C-27C1-4BE9-9065-84DD217D2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ibrary.osu.edu/sites/guides/chicagogd.php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liefs of Hindu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it Tick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nswer the Question of the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re is no mobility in the Caste System; once you are born into a caste you must st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oes a class system exist in the US? Explain why or why no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s there class mobility in the US? Explain why or why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nduism T-shirts - 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de One – Cast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Include a slogan explaining the Cast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Include a picture representing the Cas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de Two – Hinduism Beli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Include a slogan explaining Dharma, Karma, or Reincar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Include a picture representing Dha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-shirt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carnation – Practicing good behavior for 27 years to someday be reborn into a higher Cas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724280" y="1676520"/>
            <a:ext cx="3657240" cy="3961800"/>
            <a:chOff x="4724280" y="1676520"/>
            <a:chExt cx="3657240" cy="3961800"/>
          </a:xfrm>
        </p:grpSpPr>
        <p:pic>
          <p:nvPicPr>
            <p:cNvPr id="65" name="" descr=""/>
            <p:cNvPicPr/>
            <p:nvPr/>
          </p:nvPicPr>
          <p:blipFill>
            <a:blip r:embed="rId1"/>
            <a:srcRect l="35065" t="35639" r="53762" b="32450"/>
            <a:stretch/>
          </p:blipFill>
          <p:spPr>
            <a:xfrm>
              <a:off x="4724280" y="1676520"/>
              <a:ext cx="3657240" cy="396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rcRect l="15127" t="6527" r="12947" b="4351"/>
            <a:stretch/>
          </p:blipFill>
          <p:spPr>
            <a:xfrm>
              <a:off x="6424920" y="2097720"/>
              <a:ext cx="894600" cy="1011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rm-up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762120"/>
          <a:ext cx="8458200" cy="6048360"/>
        </p:xfrm>
        <a:graphic>
          <a:graphicData uri="http://schemas.openxmlformats.org/drawingml/2006/table">
            <a:tbl>
              <a:tblPr/>
              <a:tblGrid>
                <a:gridCol w="1957320"/>
                <a:gridCol w="3054240"/>
                <a:gridCol w="344664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 of the 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rm-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are three traditional beliefs of Hinduism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EXIT TICKE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Untouchables (Dalits) are left out of the Caste System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Hindu dietary restrictions forbid Hindus from eating beef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induism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Dhar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each person is born into a caste and has a certain moral duty specific to that c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Reincarn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the rebirth of souls after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induism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Karm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if you behave responsibly you will be reborn into a higher caste and eventually reach eternal pe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p Q’s - Untouch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list of discrimination towards Dalits (Untouchables) that you observe in the rural vill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eral Pyres Read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ow many Hindus die each day in India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ist the two other negative effects of the cremation rituals in India. Sketch each negative eff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Denuded forests = defores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What is the benefit of cremation and sprinkling your ashes in the Ganges Riv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What are the three positive aspects of electric crem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eral Pyres Reading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How many Hindus die each day in Indi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List the two other negative effects of the cremation rituals in India. Sketch each negative effect. (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agrap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Denuded forests = defores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hat is the benefit of cremation and sprinkling your ashes in the Ganges River? (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agrap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What are the three positive aspects of electric cremation? (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agraph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ndu River of Redemption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: Complete a 3-2-1 on the reading in your noteboo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rite three things you learn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rite two questions you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rite one sentence answering the question below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negative effects of traditions in the Hindu relig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-2-1 Homework Assig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7631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: Using online sources find the answers to the questions you wrote in the “2” section of the 3-2-1 assign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Record your answ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Cite each sour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resources below to assist you in your citations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library.osu.edu/sites/guides/chicagogd.ph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2:27:18Z</dcterms:created>
  <dc:creator>CFISD</dc:creator>
  <dc:description/>
  <dc:language>en-US</dc:language>
  <cp:lastModifiedBy>CFISD</cp:lastModifiedBy>
  <dcterms:modified xsi:type="dcterms:W3CDTF">2009-03-24T14:15:03Z</dcterms:modified>
  <cp:revision>14</cp:revision>
  <dc:subject/>
  <dc:title>Hinduism and the Caste System</dc:title>
</cp:coreProperties>
</file>