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90A-3083-432D-AAFF-F7653B28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947-61A3-4B43-9A9B-C03F812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5D5-1641-4B03-9EC3-66B57679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9CB-4409-4733-B18E-066A3BA9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9F1-F1C0-4A69-A104-783EA1CE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550-C6EE-48B1-A40C-C9E8E714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EB9-0427-4F8A-9682-5883F38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D60-A847-48D5-A5B4-263249E8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977-5E2B-486F-AD84-CD5AF668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223-1EB7-490D-B8C4-8AAA027F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EA3-C0A5-44AF-B0BE-4B3826F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C97-4955-447B-B14B-93FBF32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4831-3FBA-4371-BACE-DDA0D5EE0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y.osu.edu/sites/guides/chicagogd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 of 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the Questio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 is no mobility in the Caste System; once you are born into a caste you must st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es a class system exist in the US? Explain why or why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s there class mobility in the US? 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ism T-shirt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ne –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the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Two – Hinduism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Dharma, Karma, or Reincar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Dh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carnation – Practicing good behavior for 27 years to someday be reborn into a higher C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24280" y="1676520"/>
            <a:ext cx="3657240" cy="3961800"/>
            <a:chOff x="4724280" y="1676520"/>
            <a:chExt cx="3657240" cy="3961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35065" t="35639" r="53762" b="32450"/>
            <a:stretch/>
          </p:blipFill>
          <p:spPr>
            <a:xfrm>
              <a:off x="4724280" y="1676520"/>
              <a:ext cx="3657240" cy="39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15127" t="6527" r="12947" b="4351"/>
            <a:stretch/>
          </p:blipFill>
          <p:spPr>
            <a:xfrm>
              <a:off x="6424920" y="2097720"/>
              <a:ext cx="894600" cy="10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762120"/>
          <a:ext cx="8458200" cy="6048360"/>
        </p:xfrm>
        <a:graphic>
          <a:graphicData uri="http://schemas.openxmlformats.org/drawingml/2006/table">
            <a:tbl>
              <a:tblPr/>
              <a:tblGrid>
                <a:gridCol w="1957320"/>
                <a:gridCol w="3054240"/>
                <a:gridCol w="34466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ree traditional beliefs of Hinduis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EXIT TICK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Untouchables (Dalits) are left out of the Caste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indu dietary restrictions forbid Hindus from eating bee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h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ach person is born into a caste and has a certain moral duty specific to that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einca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e rebirth of souls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K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f you behave responsibly you will be reborn into a higher caste and eventually reach eternal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’s - Untouch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discrimination towards Dalits (Untouchables) that you observe in the rural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(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(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 River of Redemption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omplete a 3-2-1 on the reading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hree things you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wo question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one sentence answering the ques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egative effects of traditions in the Hindu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2-1 Homework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Using online sources find the answers to the questions you wrote in the “2” section of the 3-2-1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cord y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ite each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resources below to assist you in your cita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osu.edu/sites/guides/chicagogd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27:18Z</dcterms:created>
  <dc:creator>CFISD</dc:creator>
  <dc:description/>
  <dc:language>en-US</dc:language>
  <cp:lastModifiedBy>CFISD</cp:lastModifiedBy>
  <dcterms:modified xsi:type="dcterms:W3CDTF">2009-03-24T14:15:03Z</dcterms:modified>
  <cp:revision>14</cp:revision>
  <dc:subject/>
  <dc:title>Hinduism and the Caste System</dc:title>
</cp:coreProperties>
</file>