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3.wmf" ContentType="image/x-wmf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F71-A59D-4C42-8BA5-54C25FE5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2D3-423D-4ED3-A422-0EA52522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8FE-CD4F-4A40-988D-9C91166C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0DD-8E5B-47A4-BA9A-E1157C3C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A220-17D8-46F2-9BB6-B954587C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165-3191-4C7F-990D-B504323F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45B-07B8-452F-9C9C-A08D5150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30F-A4A6-41B9-AC5F-9EAB3C4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016-9AB0-46BC-95C5-5AEEA2E6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55B0-27FA-41A6-A902-98F9E9A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634-339C-4A1A-AAEE-F764489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27A-59D0-4B20-854C-279A28F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63C-288C-4B73-9076-907EC774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and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276720" cy="226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350496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00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4796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70120" cy="24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76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008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625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1450800"/>
            <a:ext cx="4038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29200" y="4219560"/>
            <a:ext cx="388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05720" y="4114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8624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29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55272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ouch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ouchables are outside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status in Indian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nd lif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jobs like sewage workers or cremating dea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extreme poverty or hom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33560" cy="24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8084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dd the Untouchables on your graphic organi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ass systems 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roup would be “untouchab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caste system affect the daily lives of Hind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5527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3429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4038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0992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passed laws to make the caste system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caste system is a strong tradition held in Indi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truggle as India is trying to take steps towards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t of Hind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nduism the cow is seen as a sacred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Hindus do not eat be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352680" cy="288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019920"/>
            <a:ext cx="82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suchico.edu/~cheinz/syllabi/asst001/spring98/ind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mages were taken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057400"/>
            <a:ext cx="2667240" cy="2438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se religions have in common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79480"/>
            <a:ext cx="304812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3882960"/>
            <a:ext cx="2819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8296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turn to page 76 in you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ection on Hindu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exist between Hinduism and the religions of Southwest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971800" cy="208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52880" y="3808440"/>
            <a:ext cx="297180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ga: Goddess that kills de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m: God born to free world from crue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76 in your textbook and look at the map titled “World Religion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a complete sentence: Which South Asian country has the largest percentage of Hind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6629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s in Hinduism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Reincar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ge 571-572 “Hinduism” to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reincar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etermines how a person is reincar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dha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ease turn in your textbook to pg. 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this page to help you complete the Caste System section of your worksheet.  This includes question #7 and the diagram question #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828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1981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42624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573440" y="1600200"/>
            <a:ext cx="417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114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cord their jobs or positions in society on the triangle or next to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00440" y="2895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114800"/>
            <a:ext cx="35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this represent high status or low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United States what group of people might be at the t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91440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57:54Z</dcterms:created>
  <dc:creator>cfisd</dc:creator>
  <dc:description/>
  <dc:language>en-US</dc:language>
  <cp:lastModifiedBy>CFISD</cp:lastModifiedBy>
  <dcterms:modified xsi:type="dcterms:W3CDTF">2009-03-23T12:50:34Z</dcterms:modified>
  <cp:revision>7</cp:revision>
  <dc:subject/>
  <dc:title>Hinduism and the Caste System</dc:title>
</cp:coreProperties>
</file>