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E37-3B54-4165-93B8-86136B9D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3B1-27BA-4A4F-B84D-B8209761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768-5425-4FF1-BA4E-339E2258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5B1-FE55-4EDF-8DB8-F05005FF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D80-1905-46B9-AA4D-C33C2B40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B5C-294C-49FC-B2D5-2BC3164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0E7-258B-432D-9643-2FBF01D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524-0B76-476D-94B8-1307E931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97C-0173-4B9E-92F7-D630573E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B43-E300-463C-B634-67F7DAF5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56C-EF5B-4D2B-BB39-9DDE4CF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A77-6AAE-40D5-88F7-CF3C0ED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F7C4-4F55-49CF-A98C-D4B2234F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y.osu.edu/sites/guides/chicagogd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 of 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the Questio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 is no mobility in the Caste System; once you are born into a caste you must st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es a class system exist in the US? Explain why or why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s there class mobility in the US? 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ism T-shirt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ne –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the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Two – Hinduism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Dharma, Karma, or Reincar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Dh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carnation – Practicing good behavior for 27 years to someday be reborn into a higher C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24280" y="1676520"/>
            <a:ext cx="3657240" cy="3961800"/>
            <a:chOff x="4724280" y="1676520"/>
            <a:chExt cx="3657240" cy="3961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35065" t="35639" r="53762" b="32450"/>
            <a:stretch/>
          </p:blipFill>
          <p:spPr>
            <a:xfrm>
              <a:off x="4724280" y="1676520"/>
              <a:ext cx="3657240" cy="39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15127" t="6527" r="12947" b="4351"/>
            <a:stretch/>
          </p:blipFill>
          <p:spPr>
            <a:xfrm>
              <a:off x="6424920" y="2097720"/>
              <a:ext cx="894600" cy="10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762120"/>
          <a:ext cx="8458200" cy="6048360"/>
        </p:xfrm>
        <a:graphic>
          <a:graphicData uri="http://schemas.openxmlformats.org/drawingml/2006/table">
            <a:tbl>
              <a:tblPr/>
              <a:tblGrid>
                <a:gridCol w="1957320"/>
                <a:gridCol w="3054240"/>
                <a:gridCol w="34466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ree traditional beliefs of Hinduis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EXIT TICK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Untouchables (Dalits) are left out of the Caste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indu dietary restrictions forbid Hindus from eating bee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h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ach person is born into a caste and has a certain moral duty specific to that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einca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e rebirth of souls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K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f you behave responsibly you will be reborn into a higher caste and eventually reach eternal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’s - Untouch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discrimination towards Dalits (Untouchables) that you observe in the rural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(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(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 River of Redemption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omplete a 3-2-1 on the reading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hree things you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wo question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one sentence answering the ques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egative effects of traditions in the Hindu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2-1 Homework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Using online sources find the answers to the questions you wrote in the “2” section of the 3-2-1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cord y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ite each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resources below to assist you in your cita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osu.edu/sites/guides/chicagogd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27:18Z</dcterms:created>
  <dc:creator>CFISD</dc:creator>
  <dc:description/>
  <dc:language>en-US</dc:language>
  <cp:lastModifiedBy>CFISD</cp:lastModifiedBy>
  <dcterms:modified xsi:type="dcterms:W3CDTF">2009-03-24T14:15:03Z</dcterms:modified>
  <cp:revision>14</cp:revision>
  <dc:subject/>
  <dc:title>Hinduism and the Caste System</dc:title>
</cp:coreProperties>
</file>