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378-D8AC-4301-8F8E-911DB4B9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629-BF38-4F4F-A26A-4CB92C0F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51C-C139-47BB-A3EE-5767FFBB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A56-EF1B-4B79-A99F-BF50F2F8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AEF-D95E-4CD8-9FC5-F2288F8E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D4C-F3B3-4092-A9A5-BEB934F2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165-D76E-416A-9861-B1611DE0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9F7-E835-4F7D-9A71-DE1C44C3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3C9-EF16-44C3-AB72-598CD92B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395-BBA4-4604-BB35-9EA2B526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5F2-DE9A-4C1C-A487-9C2BA3CB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7C9-4368-461B-8C50-14B2482E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0F9B-C1AF-45A8-9DA7-A115353AC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so difficult to sol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 Hamas is a Palestinian Political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to power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s terro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cuts off all aid to th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 Hamas is a Palestinian Political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to power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 terro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cuts off all aid to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 Ques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y would Hamas create a children’s program like this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they attack the US and the Jews in thei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stinian politic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s to talk peace with the Israe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 Bush meets with them in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3:03:47Z</dcterms:created>
  <dc:creator>CFISD</dc:creator>
  <dc:description/>
  <dc:language>en-US</dc:language>
  <cp:lastModifiedBy>CFISD</cp:lastModifiedBy>
  <dcterms:modified xsi:type="dcterms:W3CDTF">2009-02-26T13:29:16Z</dcterms:modified>
  <cp:revision>6</cp:revision>
  <dc:subject/>
  <dc:title>Why is this so difficult to solve?</dc:title>
</cp:coreProperties>
</file>