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075-08E6-4A1B-B8DF-774DF1AF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1D3E-2500-4EDF-8619-BF69D61D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809-EE91-4BC6-8743-F5A596DA0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FDEF-9C7F-405D-9567-4D6656BF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F589-4AED-49E6-BFCB-343E51FC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DE8-2D97-44DF-9806-8954B692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643-962E-4835-A9F8-ECF301D5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9BAD-7FA8-4F76-BF36-127A9B45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73E-109C-4A4C-B1B8-E86598B99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C726-0634-4E73-91E9-D67A5D16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240-DE06-44AB-B8E7-68EADBC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3490-404A-48BF-9FC6-B369F5E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F4B5-AC1D-4253-BF72-62D270147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this so difficult to sol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s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oup Hamas is a Palestinian Political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ED to power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 terror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uts off all aid to th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p Ques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y would Hamas create a children’s program like this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they attack the US and the Jews in thei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6768"/>
            </a:gs>
            <a:gs pos="50000">
              <a:srgbClr val="bbe0e3"/>
            </a:gs>
            <a:gs pos="100000">
              <a:srgbClr val="56676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estinian political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s to talk peace with the Israe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 Bush meets with them in 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3:03:47Z</dcterms:created>
  <dc:creator>CFISD</dc:creator>
  <dc:description/>
  <dc:language>en-US</dc:language>
  <cp:lastModifiedBy>CFISD</cp:lastModifiedBy>
  <dcterms:modified xsi:type="dcterms:W3CDTF">2009-02-26T13:29:16Z</dcterms:modified>
  <cp:revision>6</cp:revision>
  <dc:subject/>
  <dc:title>Why is this so difficult to solve?</dc:title>
</cp:coreProperties>
</file>