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0881-3CBA-4046-9B2F-2D5837533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B7BF-86ED-4D4C-8EB9-F434720F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FC87-0471-4529-9FD7-451392D1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15B2-12BD-44BC-8D29-B21A8EDA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D81-1C4B-46FA-8149-DCACD49C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804-CD03-47EB-8EE3-6C2FFA8D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9A71-FA17-43B5-9B14-6514F352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9DE-186B-4AFF-AB22-293AD2DA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72B-A642-4F1B-AD87-298C3585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3470-E3AC-4ECD-9C1F-EFCE12C8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0223-3EAF-450A-83DD-EBABB62B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3295-632C-4E83-800A-4098C113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697C-DF9E-4B20-8928-966393989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so difficult to sol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 Hamas is a Palestinian Political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to power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s terro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cuts off all aid to th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 Hamas is a Palestinian Political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to power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 terro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cuts off all aid to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 Ques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y would Hamas create a children’s program like this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they attack the US and the Jews in thei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stinian politic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s to talk peace with the Israe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 Bush meets with them in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3:03:47Z</dcterms:created>
  <dc:creator>CFISD</dc:creator>
  <dc:description/>
  <dc:language>en-US</dc:language>
  <cp:lastModifiedBy>CFISD</cp:lastModifiedBy>
  <dcterms:modified xsi:type="dcterms:W3CDTF">2009-02-26T13:29:16Z</dcterms:modified>
  <cp:revision>6</cp:revision>
  <dc:subject/>
  <dc:title>Why is this so difficult to solve?</dc:title>
</cp:coreProperties>
</file>