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A5E-05CB-4696-BBED-1BB37E0F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3DA-1D3B-47FD-B9F2-7E022CAF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9E4-A521-4154-A787-4751FE7E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E23-8A33-4003-8338-7A2AE808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609-D37D-4029-86D4-A3BEAEF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CA7-447D-4BB8-A0A3-47F1CE8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765-4B54-4BA4-BC84-84ED8F98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961-7EA9-4485-A3A8-BFFB9C4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28C-AD20-4B15-B4D5-2314770A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0C8-B956-450D-A777-E7A1A106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F05-DD51-4100-8C25-6FC896C1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A7A-CF92-4984-BA39-3F11EFB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518-7FC8-46F2-92C1-1E5BCAAE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 difficult to sol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s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would Hamas create a children’s program like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y attack the US and the Jews in thei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politi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s to talk peace with the Israe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meets with them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3:47Z</dcterms:created>
  <dc:creator>CFISD</dc:creator>
  <dc:description/>
  <dc:language>en-US</dc:language>
  <cp:lastModifiedBy>CFISD</cp:lastModifiedBy>
  <dcterms:modified xsi:type="dcterms:W3CDTF">2009-02-26T13:29:16Z</dcterms:modified>
  <cp:revision>6</cp:revision>
  <dc:subject/>
  <dc:title>Why is this so difficult to solve?</dc:title>
</cp:coreProperties>
</file>