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0C15-D7EF-4A96-BE01-C39817607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CBD6-578E-42A3-81D9-8A6815DA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536B-DDD0-48EA-95C4-A2FA7F500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5EFB-C971-4DCC-B583-DB86C2429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B8C5-B05F-4A06-BBE8-572F8001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568F-957A-4DE2-BF32-F51AF4D9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D175-11BB-48BC-960E-BE597557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88CB-6008-4FD3-A868-7DBE0901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816B-46BE-415A-94AE-78DCCCB3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9A2E-EE48-47BA-AA79-BFFFEB6E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ABB5-217A-495B-9638-8F5D0EEB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EE11-BF00-4C20-B48B-6BE2B55C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85D0-E747-4CDC-ADAD-1B915BA07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this so difficult to sol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m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oup Hamas is a Palestinian Political Pa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ED to power in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nsors terror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cuts off all aid to th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m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oup Hamas is a Palestinian Political Pa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ED to power in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nsor terror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cuts off all aid to th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p Ques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y would Hamas create a children’s program like this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they attack the US and the Jews in thei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estinian political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s to talk peace with the Israe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ent Bush meets with them in 200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3:03:47Z</dcterms:created>
  <dc:creator>CFISD</dc:creator>
  <dc:description/>
  <dc:language>en-US</dc:language>
  <cp:lastModifiedBy>CFISD</cp:lastModifiedBy>
  <dcterms:modified xsi:type="dcterms:W3CDTF">2009-02-26T13:29:16Z</dcterms:modified>
  <cp:revision>6</cp:revision>
  <dc:subject/>
  <dc:title>Why is this so difficult to solve?</dc:title>
</cp:coreProperties>
</file>