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777-FE25-4667-8169-062BDFD6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CCA-7BEB-428C-A88C-666ED769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AADE-A0EC-41AA-A40A-66024D19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2B8-248A-49AC-B96C-5AE088D4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19F-C257-43FF-9D7D-7D59191C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7B8E-2A35-416A-8720-9ED46D59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0FA-7941-4F22-9168-8C8506D81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7AE-1FB2-4643-94C6-D539D55E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BFE-C539-45F9-BE0E-B3AD7400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2AD9-49B8-4671-A113-5C83333C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425-08B2-413E-B7C7-1F59B7AE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BA9-7C14-405F-96AC-E29F2C5C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58AA-FC17-4CBC-83DC-C6A713AC2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will analyze three case studies and ultimate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 your plan outli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Novell window at the bottom by the start but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Googl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Chernobyl typ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1 24 N, 30 03 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Search box and hit ent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ga Riv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6 51 N, 47 42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al Sea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5 39 N, 59 47 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38280" y="502920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Geographic Web layer is checked to show pi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1219320" y="5028840"/>
            <a:ext cx="12189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ving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process, choose the folders below to sa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:) Student Folde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 Assess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eriod’s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as your first and last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2578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save on the wiki on the file p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ld War II ends and the US and Russia are the winn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takes control of land in Easter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ssia becomes United Soviet Socialist Republics (USSR, or Soviet Unio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49200"/>
            <a:ext cx="914400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39170" b="0"/>
          <a:stretch/>
        </p:blipFill>
        <p:spPr>
          <a:xfrm>
            <a:off x="0" y="0"/>
            <a:ext cx="68025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0" y="762120"/>
            <a:ext cx="205740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onia, Latvia, Lithuania, Belarus, Moldova, Ukraine, Georgia, Armenia, Azerbaijan, Uzbekistan, Kazakhstan, Tajikistan, Kyrgyzstan were all controlled by the Russian government in Mosc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ization – rapid and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d War arms race - build up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id these two things combined lead to disast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- Direc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analyzing the effects of the Soviet Union’s government polici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our must ha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cemarks for each environmental disas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each placemark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lacemark is pointing to a picture, write (Picture) in parentheses in the tit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escription for each placemark, write the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is this an effect of the Soviet Union’s poli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makes this an environmental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you solve this proble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mark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rcRect l="24705" t="5097" r="72739" b="91578"/>
          <a:stretch/>
        </p:blipFill>
        <p:spPr>
          <a:xfrm>
            <a:off x="6781680" y="167652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04920" y="1143000"/>
            <a:ext cx="5257800" cy="50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lick the button that looks like this to create a new placemar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Locate your placemark first, once you start typing you can’t move i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If you are pointing to a picture point directly to it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heck your title and description for spelling and grammatical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Placemarks go into the My Places section on the left sid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hen you are done adding placemarks right click on my places and choose save 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Save only your six placema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0" t="31430" r="80266" b="34287"/>
          <a:stretch/>
        </p:blipFill>
        <p:spPr>
          <a:xfrm>
            <a:off x="6553080" y="327672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14600" y="1676520"/>
            <a:ext cx="43434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334120" y="388620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top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log in as a Stud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X off of Novell, you need it to access Google Ea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access Google Earth agree to the LanDisk th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loads, do what the power point slide with the direction say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5T13:27:57Z</dcterms:modified>
  <cp:revision>39</cp:revision>
  <dc:subject/>
  <dc:title>Volga River</dc:title>
</cp:coreProperties>
</file>