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A2F5-39C3-4DDF-92D1-411954EA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769-4F39-4D70-BFA3-DF83C2B0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2DC-36E4-4FA5-B274-8C08F4F7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3E1-F23F-484D-BDEF-E2D5BDE9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2BC-68EC-4479-8152-8921CBCC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BC0-D8CD-4FE1-B2A1-D0165D5D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F6E-7F94-42B8-AB1F-1022ECEF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9C9-B775-4EE1-8AEA-08C4D4A3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AA9-9073-40A2-B761-881C6284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ED8-0478-4373-8307-14E5BBC3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3EB-E867-4B7D-A465-B337FB26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9E7-D303-4141-9445-14CFAD66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EB7D-4E0F-4202-98F8-CC202745B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has hired you as the head of the Environmental Protection Agency (E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global warming and save the planet he wants you to determine how badly Russia messed up their environ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next three days you will analyze three case studies and ultimate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e your plan outl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contributions and how we should fix the probl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Novell window at the bottom by the start but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Googl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Chernobyl typ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1 24 N, 30 03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Search box and hit en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ga Riv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6 51 N, 47 42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l Se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5 39 N, 59 47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5029200"/>
            <a:ext cx="1981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Geographic Web layer is checked to show pi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219320" y="5028840"/>
            <a:ext cx="12189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ving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process, choose the folders below to s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:) Student Fold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 Assess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eriod’s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as your first and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257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save on the wiki on the file p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War II ends and the US and Russia are the win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takes control of land in Ea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becomes United Soviet Socialist Republics (USSR, or Soviet Un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39170" b="0"/>
          <a:stretch/>
        </p:blipFill>
        <p:spPr>
          <a:xfrm>
            <a:off x="0" y="0"/>
            <a:ext cx="680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762120"/>
            <a:ext cx="20574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onia, Latvia, Lithuania, Belarus, Moldova, Ukraine, Georgia, Armenia, Azerbaijan, Uzbekistan, Kazakhstan, Tajikistan, Kyrgyzstan were all controlled by the Russian government in Mosc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ization – rapid and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arms race - build up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did these two things combined lead to disas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- Direc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analyzing the effects of the Soviet Union’s government polic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ur must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cemarks for each environmental disas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each placemark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lacemark is pointing to a picture, write (Picture) in parentheses in the ti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description for each placemark, write the answer the following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this an effect of the Soviet Union’s poli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akes this an environmental probl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solve this probl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mark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4705" t="5097" r="72739" b="91578"/>
          <a:stretch/>
        </p:blipFill>
        <p:spPr>
          <a:xfrm>
            <a:off x="6781680" y="167652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52578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lick the button that looks like this to create a new placema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cate your placemark first, once you start typing you can’t mov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f you are pointing to a picture point directly to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heck your title and description for spelling and grammatic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lacemarks go into the My Places section on the left sid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hen you are done adding placemarks right click on my places and choose save 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ave only your six place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31430" r="80266" b="34287"/>
          <a:stretch/>
        </p:blipFill>
        <p:spPr>
          <a:xfrm>
            <a:off x="6553080" y="327672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4600" y="1676520"/>
            <a:ext cx="43434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334120" y="388620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top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log in as a Stu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X off of Novell, you need it to access Googl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access Google Earth agree to the LanDisk t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loads, do what the power point slide with the direction s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5T13:27:57Z</dcterms:modified>
  <cp:revision>39</cp:revision>
  <dc:subject/>
  <dc:title>Volga River</dc:title>
</cp:coreProperties>
</file>