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C041-CE82-4D02-A78F-3EEFC8599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1114-C6FF-4A67-AB6C-242F99395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FBD2-9A27-41DC-A9F8-82998FC7D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F1E6-4535-434C-B4B4-BA34C0318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6BCF-574E-4F03-9DC7-ACC9A4572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B8FE-C905-4E3F-96FA-E90D36450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620F-391A-4C92-AAE9-ED003343E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477C-0D6C-4ACA-A788-2A7D36B41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9BAE-5920-4DA3-BC46-652407F90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F68E-7B07-44CD-8F73-253F5F0A9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5393-1A2C-48BC-BB66-DD6F24B9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AA65-1E12-43A6-87C9-D1E47115E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84BE8-DB6E-4955-9933-61AF766A27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esident has hired you as the head of the Environmental Protection Agency (EP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fight global warming and save the planet he wants you to determine how badly Russia messed up their environment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ough the next three days you will analyze three case studies and ultimatel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reate your plan outlin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ir contributions and how we should fix the problem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ogle Earth Hel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on the Novell window at the bottom by the start butt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Google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Chernobyl type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1 24 N, 30 03 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the Search box and hit enter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ga River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46 51 N, 47 42 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al Sea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45 39 N, 59 47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0" r="5000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438280" y="5029200"/>
            <a:ext cx="19814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sure the Geographic Web layer is checked to show pictu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1219320" y="5028840"/>
            <a:ext cx="12189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ving Proced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ve process, choose the folders below to sav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:) Student Folde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I Assess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period’s fo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as your first and last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52578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also save on the wiki on the file pa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ld War II ends and the US and Russia are the winn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ssia takes control of land in Eastern Euro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ssia becomes United Soviet Socialist Republics (USSR, or Soviet Unio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oviet Un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249200"/>
            <a:ext cx="9144000" cy="56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39170" b="0"/>
          <a:stretch/>
        </p:blipFill>
        <p:spPr>
          <a:xfrm>
            <a:off x="0" y="0"/>
            <a:ext cx="680256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858000" y="762120"/>
            <a:ext cx="2057400" cy="393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onia, Latvia, Lithuania, Belarus, Moldova, Ukraine, Georgia, Armenia, Azerbaijan, Uzbekistan, Kazakhstan, Tajikistan, Kyrgyzstan were all controlled by the Russian government in Moscow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uses of Environmental Probl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strialization – rapid and at all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d War arms race - build up nuclear weap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ow did these two things combined lead to disaste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ffects - Direc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Google Earth tour analyzing the effects of the Soviet Union’s government policie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tour must ha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placemarks for each environmental disast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each placemark a tit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placemark is pointing to a picture, write (Picture) in parentheses in the tit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description for each placemark, write the answer the following ques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is this an effect of the Soviet Union’s polic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makes this an environmental problem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would you solve this problem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acemark Hel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24705" t="5097" r="72739" b="91578"/>
          <a:stretch/>
        </p:blipFill>
        <p:spPr>
          <a:xfrm>
            <a:off x="6781680" y="1676520"/>
            <a:ext cx="1524240" cy="1295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04920" y="1143000"/>
            <a:ext cx="5257800" cy="50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lick the button that looks like this to create a new placemark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Locate your placemark first, once you start typing you can’t move i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If you are pointing to a picture point directly to it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heck your title and description for spelling and grammatical err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lacemarks go into the My Places section on the left sid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When you are done adding placemarks right click on my places and choose save 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Save only your six placemar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rcRect l="0" t="31430" r="80266" b="34287"/>
          <a:stretch/>
        </p:blipFill>
        <p:spPr>
          <a:xfrm>
            <a:off x="6553080" y="327672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14600" y="1676520"/>
            <a:ext cx="43434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334120" y="3886200"/>
            <a:ext cx="13716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top 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must log in as a Stud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X off of Novell, you need it to access Google Eart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you access Google Earth agree to the LanDisk th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it loads, do what the power point slide with the direction say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6:38:07Z</dcterms:created>
  <dc:creator>CFISD</dc:creator>
  <dc:description/>
  <dc:language>en-US</dc:language>
  <cp:lastModifiedBy>CFISD</cp:lastModifiedBy>
  <dcterms:modified xsi:type="dcterms:W3CDTF">2008-12-15T13:27:57Z</dcterms:modified>
  <cp:revision>39</cp:revision>
  <dc:subject/>
  <dc:title>Volga River</dc:title>
</cp:coreProperties>
</file>