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DEDD-C79D-479A-A70A-98C6CD5DE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DA46-D847-435D-9279-02BBB5E6B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6B81-64C9-4ADC-84DF-087C3966A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2DA3-550E-446E-AF98-290B3F685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F32D-0242-45D2-B8F9-47D799AC6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E035-3D49-4183-A60A-7384DD1CE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6F6B-11CF-4AC5-A411-F7CB58ED2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3139-8CC2-4A22-A9C9-48937DF14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0012-4480-4348-8BE1-386AEA7C3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35A0-B5A3-4D11-8650-372C07701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11F4-7B26-4EB3-814D-448B27748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8C7D-D003-4C72-9434-52F40CB61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7C6CC-F89E-4D5C-A810-85CF5E3E01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 Fi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say Section – Part I (60 point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a partn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one of the essay topics from the list provided.  Make sure your partner chooses a different question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wer the essay in power point form using slides to produce your response (50 points)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response must include at least three images that correspond to your answer (10 points)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say Section – Part 2 (40 point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hange completed power point presenta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at least one slide.  On the slide critique his/her solution.  Have your partner do the same to your respons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solution’s strengths. (10 poi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potential pitfalls to the solution. (10 poi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first step required to achieve this solution? (10 poi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er alternative suggestions. (10 poi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1T11:59:50Z</dcterms:created>
  <dc:creator>CFISD</dc:creator>
  <dc:description/>
  <dc:language>en-US</dc:language>
  <cp:lastModifiedBy>CFISD</cp:lastModifiedBy>
  <dcterms:modified xsi:type="dcterms:W3CDTF">2009-06-01T12:00:08Z</dcterms:modified>
  <cp:revision>1</cp:revision>
  <dc:subject/>
  <dc:title>H Final</dc:title>
</cp:coreProperties>
</file>