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63DE-E3A2-46CA-A663-62F22024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0BA7-5D5F-400C-BFA7-FB338E85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578-99BA-4B9A-8785-7BEC0AE2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2010-8CA6-407C-B6B7-4C2EF0C6B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CD4-15A5-4BCE-83FF-D827DAF1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C8B-3656-47B3-9565-9AEC04A34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AEC3-1EA5-409C-BFF9-4B0E75F5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F81-D3F9-42EA-B947-551A3F3A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7B23-A148-4C32-A878-6FFF3A72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5379-0715-4C80-A70B-B66432D1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F3D6-490B-4260-9624-DD372545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2DA-0688-41C5-A8FB-A4C0E426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4F95-3DE4-4BAF-A8A5-16F02E588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Fi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I (6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 part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f the essay topics from the list provided.  Make sure your partner chooses a different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essay in power point form using slides to produce your response (50 points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esponse must include at least three images that correspond to your answer (10 points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ay Section – Part 2 (40 poi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completed power point present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t least one slide.  On the slide critique his/her solution.  Have your partner do the same to your respons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solution’s strength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pitfalls to the solution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irst step required to achieve this solution?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alternative suggestions. (10 poi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1T11:59:50Z</dcterms:created>
  <dc:creator>CFISD</dc:creator>
  <dc:description/>
  <dc:language>en-US</dc:language>
  <cp:lastModifiedBy>CFISD</cp:lastModifiedBy>
  <dcterms:modified xsi:type="dcterms:W3CDTF">2009-06-01T12:00:08Z</dcterms:modified>
  <cp:revision>1</cp:revision>
  <dc:subject/>
  <dc:title>H Final</dc:title>
</cp:coreProperties>
</file>