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CA1-C85A-4AA9-BB0D-B0323D4E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751D-15B6-4E95-A448-79327920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8855-6227-4308-BE4C-BD1E19DB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690B-F430-47B1-A410-D2D37DED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8355-C359-4874-A439-0ADD9BFC3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0999-971E-4CED-AB7C-026DF496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E54-87A3-4F5C-9818-8B246B7A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FDA-86BB-47BA-ADD1-EA3D732BD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A363-037C-4D79-8EEA-1248381B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BC1-FEC7-4B61-84F8-DD040660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3158-00D0-41A1-B2EE-39651497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0FE-4346-450B-AFC8-EABBD28B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56A2-B3B7-478C-9C73-AB7DB5EF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I (6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essay topics from the list provided.  Make sure your partner chooses a different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essay in power point form using slides to produce your response (50 point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ponse must include at least three images that correspond to your answer (10 points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2 (4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completed power point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t least one slide.  On the slide critique his/her solution.  Have your partner do the same to your respo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olution’s strength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itfalls to the solution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rst step required to achieve this solution?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lternative suggestion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59:50Z</dcterms:created>
  <dc:creator>CFISD</dc:creator>
  <dc:description/>
  <dc:language>en-US</dc:language>
  <cp:lastModifiedBy>CFISD</cp:lastModifiedBy>
  <dcterms:modified xsi:type="dcterms:W3CDTF">2009-06-01T12:00:08Z</dcterms:modified>
  <cp:revision>1</cp:revision>
  <dc:subject/>
  <dc:title>H Final</dc:title>
</cp:coreProperties>
</file>