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15D-6A2D-4979-B5BD-59BAD4F2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D03-7C7D-479B-B3DF-89D39DD3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65B-FFD0-462A-854C-FD7E5C1B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AD7-EE8F-4328-AEF5-E667EA7C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EDF-3370-4AAF-B2AA-DC88B36E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403-51C4-4858-A84C-C0B31C59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E38-282F-466C-9E79-6B2382F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299-A3D9-4752-998C-669E905D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22B-1A8E-42CC-91A0-821A928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D97-8E81-4CCF-91C7-98A8C4A5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33E-0DB6-4D91-9F72-E1D5ECFC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FAB-9DFA-4435-9A1C-258C237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9712-ED7C-4D8E-B40C-FC36917AB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I (6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essay topics from the list provided.  Make sure your partner chooses a different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essay in power point form using slides to produce your response (50 point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sponse must include at least three images that correspond to your answer (10 points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2 (4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completed power point prese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t least one slide.  On the slide critique his/her solution.  Have your partner do the same to your respon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olution’s strength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pitfalls to the solution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rst step required to achieve this solution?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alternative suggestion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59:50Z</dcterms:created>
  <dc:creator>CFISD</dc:creator>
  <dc:description/>
  <dc:language>en-US</dc:language>
  <cp:lastModifiedBy>CFISD</cp:lastModifiedBy>
  <dcterms:modified xsi:type="dcterms:W3CDTF">2009-06-01T12:00:08Z</dcterms:modified>
  <cp:revision>1</cp:revision>
  <dc:subject/>
  <dc:title>H Final</dc:title>
</cp:coreProperties>
</file>