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DC7-84CC-4A30-A9B2-BFCED2B0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347-F493-455B-B191-A969639A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C47-6617-47FB-95AB-4A5F02DA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130-42F1-463B-AF8A-1961A099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145-7D51-4573-B801-E9219C70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7C4-4730-4BDF-B8AF-C45514AA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938-C440-4236-B19A-496D0C53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56C-44CA-4DBC-B96E-6A9D3632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028-25CF-46DE-A9F6-395F3E03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E58-D57B-48A8-8129-4FB8F5BD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C91-575D-4012-87C7-0028BDF5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09F-5CED-4163-9BEB-2F976B08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BA30-44BB-4202-B33A-424A42C31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Section – Part I (60 poi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ne of the essay topics from the list provided.  Make sure your partner chooses a different ques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essay in power point form using slides to produce your response (50 points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esponse must include at least three images that correspond to your answer (10 points)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Section – Part 2 (40 poi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completed power point present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t least one slide.  On the slide critique his/her solution.  Have your partner do the same to your respon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solution’s strengths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pitfalls to the solution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irst step required to achieve this solution?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alternative suggestions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1:59:50Z</dcterms:created>
  <dc:creator>CFISD</dc:creator>
  <dc:description/>
  <dc:language>en-US</dc:language>
  <cp:lastModifiedBy>CFISD</cp:lastModifiedBy>
  <dcterms:modified xsi:type="dcterms:W3CDTF">2009-06-01T12:00:08Z</dcterms:modified>
  <cp:revision>1</cp:revision>
  <dc:subject/>
  <dc:title>H Final</dc:title>
</cp:coreProperties>
</file>