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BB0-8D81-4887-BDA6-2BD04B13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185B-7175-439B-9F8B-946D3829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2A35-F19F-4C86-BA38-57462108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8C6E-CCF9-407A-953A-3C17B88C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B4C6-7326-41CA-87E7-A4605C78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4AA3-207E-4495-B05D-CD58ED5E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E860-41B7-4541-A376-71D7E834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2AB-BB43-4FF8-B16B-48080E67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988-C642-49E7-9417-8D0BC6E7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CB9F-1D57-4767-8CCD-F2F612E0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80BF-279C-4FE8-AEA2-62F7856B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F24-CBA9-4FC9-91E8-B9E45A93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E5C4-42D9-4430-8173-07D58C227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F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ay Section – Part I (60 poi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part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one of the essay topics from the list provided.  Make sure your partner chooses a different ques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he essay in power point form using slides to produce your response (50 points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response must include at least three images that correspond to your answer (10 points)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ay Section – Part 2 (40 poi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completed power point present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t least one slide.  On the slide critique his/her solution.  Have your partner do the same to your respon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solution’s strengths. (10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tential pitfalls to the solution. (10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first step required to achieve this solution? (10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 alternative suggestions. (10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1:59:50Z</dcterms:created>
  <dc:creator>CFISD</dc:creator>
  <dc:description/>
  <dc:language>en-US</dc:language>
  <cp:lastModifiedBy>CFISD</cp:lastModifiedBy>
  <dcterms:modified xsi:type="dcterms:W3CDTF">2009-06-01T12:00:08Z</dcterms:modified>
  <cp:revision>1</cp:revision>
  <dc:subject/>
  <dc:title>H Final</dc:title>
</cp:coreProperties>
</file>