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56C2B-9DA8-41D0-9FBC-EBA256F53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B2D48-5BDB-46FC-B7E9-C68009245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EB880-018A-48BF-A304-D4FB52376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C5CF5-3D4E-48C7-9C68-095B888A5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46C6D-93C4-41F5-BF98-CB9FED0BF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AF383-C0A9-4574-B890-A12D08DC3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8A987-7350-4F70-965C-5E924DFC0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D19EF-BCBA-4140-8519-D648AEDB0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85E61-B425-4D46-B195-3392CE7A6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D3FAD-DF8A-475B-9EC6-C2574109E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F40A5-1C7A-4DB6-854C-6C874D87E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56363-3A08-4394-93FA-FCB2B104C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F964-3412-424F-ACDC-C891227AD4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0" spc="-1" strike="noStrike">
                <a:solidFill>
                  <a:srgbClr val="000000"/>
                </a:solidFill>
                <a:latin typeface="Vivaldi"/>
                <a:ea typeface="굴림"/>
              </a:rPr>
              <a:t>Orso University</a:t>
            </a:r>
            <a:endParaRPr b="0" lang="en-US" sz="10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By: 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Crime Data</a:t>
            </a:r>
            <a:endParaRPr b="0" lang="en-US" sz="4400" spc="-1" strike="noStrike">
              <a:solidFill>
                <a:srgbClr val="000000"/>
              </a:solidFill>
              <a:latin typeface="Arial"/>
            </a:endParaRPr>
          </a:p>
        </p:txBody>
      </p:sp>
      <p:graphicFrame>
        <p:nvGraphicFramePr>
          <p:cNvPr id="62" name=""/>
          <p:cNvGraphicFramePr/>
          <p:nvPr/>
        </p:nvGraphicFramePr>
        <p:xfrm>
          <a:off x="3708360" y="765000"/>
          <a:ext cx="4978440" cy="5688000"/>
        </p:xfrm>
        <a:graphic>
          <a:graphicData uri="http://schemas.openxmlformats.org/drawingml/2006/table">
            <a:tbl>
              <a:tblPr/>
              <a:tblGrid>
                <a:gridCol w="1244520"/>
                <a:gridCol w="1244880"/>
                <a:gridCol w="1244520"/>
                <a:gridCol w="1244520"/>
              </a:tblGrid>
              <a:tr h="9032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number of rap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number of murd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rime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est Tomball 29608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mediu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igh</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179280" y="1341360"/>
            <a:ext cx="3384720" cy="49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 Give three examples of layers that you could add to this map that would provide additional information about the crime level in each area. Do not use additional crimes for your answer, credit will not be given.</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mount of police station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ocal hospital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The amount of law enforcement in th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굴림"/>
              </a:rPr>
              <a:t>Analyze Crime Data and Land Prices</a:t>
            </a:r>
            <a:endParaRPr b="0" lang="en-US" sz="37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
              </a:rPr>
              <a:t>	</a:t>
            </a:r>
            <a:r>
              <a:rPr b="1" lang="en-US" sz="1700" spc="-1" strike="noStrike">
                <a:solidFill>
                  <a:srgbClr val="000000"/>
                </a:solidFill>
                <a:latin typeface="Arial"/>
                <a:ea typeface="굴림"/>
              </a:rPr>
              <a:t>Explain how Crime Data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if there are a lot of crimes in the area, it will give the school a bad reputation. Because students would want to live and go to school in a safe environment, many students would not want to go to Orso Universit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1" lang="en-US" sz="1700" spc="-1" strike="noStrike">
                <a:solidFill>
                  <a:srgbClr val="000000"/>
                </a:solidFill>
                <a:latin typeface="Arial"/>
                <a:ea typeface="굴림"/>
              </a:rPr>
              <a:t>Explain how land prices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
              </a:rPr>
              <a:t>	</a:t>
            </a:r>
            <a:r>
              <a:rPr b="0" lang="en-US" sz="1700" spc="-1" strike="noStrike">
                <a:solidFill>
                  <a:srgbClr val="000000"/>
                </a:solidFill>
                <a:latin typeface="Arial"/>
                <a:ea typeface="굴림"/>
              </a:rPr>
              <a:t>If the land prices are high, it will increase the tuition fee. All students have other expenses to consider such as housing, books, etc, and they may not be able to afford it all.</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1" lang="en-US" sz="1700" spc="-1" strike="noStrike">
                <a:solidFill>
                  <a:srgbClr val="000000"/>
                </a:solidFill>
                <a:latin typeface="Arial"/>
                <a:ea typeface="굴림"/>
              </a:rPr>
              <a:t>Explain how the board of directors and investors will respond to both sets of data.</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
              </a:rPr>
              <a:t>	</a:t>
            </a:r>
            <a:r>
              <a:rPr b="0" lang="en-US" sz="1700" spc="-1" strike="noStrike">
                <a:solidFill>
                  <a:srgbClr val="000000"/>
                </a:solidFill>
                <a:latin typeface="Arial"/>
                <a:ea typeface="굴림"/>
              </a:rPr>
              <a:t>The board of directors and investors will look for a safe area with reasonable prices for land. The price of the land cannot be too expensive because there would be no more money to make the rest of the schoo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굴림"/>
              </a:rPr>
              <a:t>Analysis- other sources of information</a:t>
            </a:r>
            <a:endParaRPr b="0" lang="en-US" sz="3700" spc="-1" strike="noStrike">
              <a:solidFill>
                <a:srgbClr val="000000"/>
              </a:solidFill>
              <a:latin typeface="Arial"/>
            </a:endParaRPr>
          </a:p>
        </p:txBody>
      </p:sp>
      <p:graphicFrame>
        <p:nvGraphicFramePr>
          <p:cNvPr id="67" name=""/>
          <p:cNvGraphicFramePr/>
          <p:nvPr/>
        </p:nvGraphicFramePr>
        <p:xfrm>
          <a:off x="0" y="692280"/>
          <a:ext cx="9143640" cy="5973480"/>
        </p:xfrm>
        <a:graphic>
          <a:graphicData uri="http://schemas.openxmlformats.org/drawingml/2006/table">
            <a:tbl>
              <a:tblPr/>
              <a:tblGrid>
                <a:gridCol w="2285640"/>
                <a:gridCol w="2286360"/>
                <a:gridCol w="2286000"/>
                <a:gridCol w="2285640"/>
              </a:tblGrid>
              <a:tr h="1002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Other sources of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xplanation of how the source would be beneficia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cation that would likely benefit the most from your 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cation that would likely from the least from your sour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rs, restaurants, entertain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ollege students like to eat out, be entertained from time to time, and they may or may not want to live in an area with an active night lif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est Tomball 29608 F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ousing complex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f the population of students is high, the prices for housing would be very high. Students would also have to consider the location of where they live whether it’s on campus or n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reet</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olice stations, hospitals, fire sta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t  would always be more convenient to most students to have a police station or hospital nearby. If the crime rate is high, police stations would always be great to have nearb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굴림"/>
              </a:rPr>
              <a:t>Analyze- Conclusion</a:t>
            </a:r>
            <a:endParaRPr b="0" lang="en-US" sz="3700" spc="-1" strike="noStrike">
              <a:solidFill>
                <a:srgbClr val="000000"/>
              </a:solidFill>
              <a:latin typeface="Arial"/>
            </a:endParaRPr>
          </a:p>
        </p:txBody>
      </p:sp>
      <p:sp>
        <p:nvSpPr>
          <p:cNvPr id="69"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1" lang="en-US" sz="1800" spc="-1" strike="noStrike">
                <a:solidFill>
                  <a:srgbClr val="000000"/>
                </a:solidFill>
                <a:latin typeface="Arial"/>
                <a:ea typeface="굴림"/>
              </a:rPr>
              <a:t>most significant to least signific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1.Crime data is very important in deciding where to build a university. A  dangerous environment is a risk to the student’s safety. The protection of the students should always be a top priority and a violent living area would get in the way of th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2. Fault Data and Mechanical Weathering- Fault data and mechanical weathering would cause severe damages to the school’s foundation. The repairs would be costl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3. Hurricane storm surge and potential damage- It can not only harm the students, but the school would be in danger of getting severely damag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4. Floodplains- Flooding can also ruin the school’s structure and the repairs would cost a lot of mone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5. Land prices- The cost of land would affect the price of tuition and whether or not students would want to attend the schoo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6. Watersheds- Watersheds just store water. There may be a little flooding when it overflows, but nothing too sev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c80"/>
            </a:gs>
            <a:gs pos="100000">
              <a:srgbClr val="cc33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Land Prices Analysis</a:t>
            </a:r>
            <a:endParaRPr b="0" lang="en-US" sz="4400" spc="-1" strike="noStrike">
              <a:solidFill>
                <a:srgbClr val="000000"/>
              </a:solidFill>
              <a:latin typeface="Arial"/>
            </a:endParaRPr>
          </a:p>
        </p:txBody>
      </p:sp>
      <p:graphicFrame>
        <p:nvGraphicFramePr>
          <p:cNvPr id="71" name=""/>
          <p:cNvGraphicFramePr/>
          <p:nvPr/>
        </p:nvGraphicFramePr>
        <p:xfrm>
          <a:off x="395280" y="907920"/>
          <a:ext cx="8229600" cy="4525920"/>
        </p:xfrm>
        <a:graphic>
          <a:graphicData uri="http://schemas.openxmlformats.org/drawingml/2006/table">
            <a:tbl>
              <a:tblPr/>
              <a:tblGrid>
                <a:gridCol w="4114800"/>
                <a:gridCol w="4114800"/>
              </a:tblGrid>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o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and price (per ac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Baysid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27,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NE Houst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1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 Tombal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4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Downtown Eas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Downtown Cent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6,8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1763640" y="5734080"/>
            <a:ext cx="6408720" cy="11260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Explain how land prices will affect the recruitment of future students.</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he price of land will affect the size the school will be built. The tuition fees will probably be determined based on how much it will take to buld the schoo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rime Data- Arrange</a:t>
            </a:r>
            <a:endParaRPr b="0" lang="en-US" sz="4400" spc="-1" strike="noStrike">
              <a:solidFill>
                <a:srgbClr val="000000"/>
              </a:solidFill>
              <a:latin typeface="Arial"/>
            </a:endParaRPr>
          </a:p>
        </p:txBody>
      </p:sp>
      <p:graphicFrame>
        <p:nvGraphicFramePr>
          <p:cNvPr id="74" name=""/>
          <p:cNvGraphicFramePr/>
          <p:nvPr/>
        </p:nvGraphicFramePr>
        <p:xfrm>
          <a:off x="457200" y="2516040"/>
          <a:ext cx="4038480" cy="2694240"/>
        </p:xfrm>
        <a:graphic>
          <a:graphicData uri="http://schemas.openxmlformats.org/presentationml/2006/ole">
            <p:oleObj r:id="rId1" spid="">
              <p:embed/>
              <p:pic>
                <p:nvPicPr>
                  <p:cNvPr id="75" name="" descr=""/>
                  <p:cNvPicPr/>
                  <p:nvPr/>
                </p:nvPicPr>
                <p:blipFill>
                  <a:blip r:embed="rId2"/>
                  <a:stretch/>
                </p:blipFill>
                <p:spPr>
                  <a:xfrm>
                    <a:off x="457200" y="2516040"/>
                    <a:ext cx="4038480" cy="2694240"/>
                  </a:xfrm>
                  <a:prstGeom prst="rect">
                    <a:avLst/>
                  </a:prstGeom>
                  <a:ln w="0">
                    <a:noFill/>
                  </a:ln>
                </p:spPr>
              </p:pic>
            </p:oleObj>
          </a:graphicData>
        </a:graphic>
      </p:graphicFrame>
      <p:graphicFrame>
        <p:nvGraphicFramePr>
          <p:cNvPr id="76" name=""/>
          <p:cNvGraphicFramePr/>
          <p:nvPr/>
        </p:nvGraphicFramePr>
        <p:xfrm>
          <a:off x="1792440" y="1832040"/>
          <a:ext cx="5499000" cy="3370320"/>
        </p:xfrm>
        <a:graphic>
          <a:graphicData uri="http://schemas.openxmlformats.org/presentationml/2006/ole">
            <p:oleObj r:id="rId3" spid="">
              <p:embed/>
              <p:pic>
                <p:nvPicPr>
                  <p:cNvPr id="77" name="" descr=""/>
                  <p:cNvPicPr/>
                  <p:nvPr/>
                </p:nvPicPr>
                <p:blipFill>
                  <a:blip r:embed="rId4"/>
                  <a:stretch/>
                </p:blipFill>
                <p:spPr>
                  <a:xfrm>
                    <a:off x="1792440" y="1832040"/>
                    <a:ext cx="5499000" cy="33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Apply- Where did I choose to put Orso University?</a:t>
            </a:r>
            <a:endParaRPr b="0" lang="en-US" sz="4000" spc="-1" strike="noStrike">
              <a:solidFill>
                <a:srgbClr val="000000"/>
              </a:solidFill>
              <a:latin typeface="Arial"/>
            </a:endParaRPr>
          </a:p>
        </p:txBody>
      </p:sp>
      <p:sp>
        <p:nvSpPr>
          <p:cNvPr id="79"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This best place to put Orso University in my opinion would be in NE Houston. The crime rate is very low so it would be safe for the students. Flooding is very minor and it is barely affected by hurricanes so the cost of repairs wouldn’t be too expensive. There is one small fault near the location but it wouldn’t cause too much damage. The price of land is also very cheap so it would be easier for the students to pay their tuitions and there would be enough money left over to build Orso University proper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 descr=""/>
          <p:cNvPicPr/>
          <p:nvPr/>
        </p:nvPicPr>
        <p:blipFill>
          <a:blip r:embed="rId1"/>
          <a:stretch/>
        </p:blipFill>
        <p:spPr>
          <a:xfrm>
            <a:off x="1835280" y="2781360"/>
            <a:ext cx="5322600" cy="3738600"/>
          </a:xfrm>
          <a:prstGeom prst="rect">
            <a:avLst/>
          </a:prstGeom>
          <a:ln w="0">
            <a:noFill/>
          </a:ln>
        </p:spPr>
      </p:pic>
      <p:sp>
        <p:nvSpPr>
          <p:cNvPr id="81" name=""/>
          <p:cNvSpPr/>
          <p:nvPr/>
        </p:nvSpPr>
        <p:spPr>
          <a:xfrm>
            <a:off x="3203640" y="6521400"/>
            <a:ext cx="29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Not Cambridge Univeris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1. How many earthquakes have occurred over the past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2. What is the climate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3. How much crime activity is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4. What are the charges to make and maintain Orso Un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5. What is the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6. Are there any faults near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8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Acquire floodplains</a:t>
            </a:r>
            <a:endParaRPr b="0" lang="en-US" sz="3600" spc="-1" strike="noStrike">
              <a:solidFill>
                <a:srgbClr val="000000"/>
              </a:solidFill>
              <a:latin typeface="Arial"/>
            </a:endParaRPr>
          </a:p>
        </p:txBody>
      </p:sp>
      <p:sp>
        <p:nvSpPr>
          <p:cNvPr id="46" name="PlaceHolder 2"/>
          <p:cNvSpPr>
            <a:spLocks noGrp="1"/>
          </p:cNvSpPr>
          <p:nvPr>
            <p:ph/>
          </p:nvPr>
        </p:nvSpPr>
        <p:spPr>
          <a:xfrm>
            <a:off x="-360" y="549360"/>
            <a:ext cx="1476360" cy="3373200"/>
          </a:xfrm>
          <a:prstGeom prst="rect">
            <a:avLst/>
          </a:prstGeom>
          <a:noFill/>
          <a:ln w="0">
            <a:noFill/>
          </a:ln>
        </p:spPr>
        <p:txBody>
          <a:bodyPr lIns="90000" rIns="90000" tIns="46800" bIns="46800" anchor="t">
            <a:normAutofit fontScale="79000"/>
          </a:bodyPr>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 What are the three different categories of floods? Rank them in order from strongest to weakest</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three different categories of floodplains are 10- year flood, 100- year flood, and 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1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10 year flood</a:t>
            </a:r>
            <a:endParaRPr b="0" lang="en-US" sz="1400" spc="-1" strike="noStrike">
              <a:solidFill>
                <a:srgbClr val="000000"/>
              </a:solidFill>
              <a:latin typeface="Arial"/>
            </a:endParaRPr>
          </a:p>
        </p:txBody>
      </p:sp>
      <p:graphicFrame>
        <p:nvGraphicFramePr>
          <p:cNvPr id="47" name=""/>
          <p:cNvGraphicFramePr/>
          <p:nvPr/>
        </p:nvGraphicFramePr>
        <p:xfrm>
          <a:off x="1654200" y="512640"/>
          <a:ext cx="7489800" cy="6345360"/>
        </p:xfrm>
        <a:graphic>
          <a:graphicData uri="http://schemas.openxmlformats.org/drawingml/2006/table">
            <a:tbl>
              <a:tblPr/>
              <a:tblGrid>
                <a:gridCol w="1873440"/>
                <a:gridCol w="1871640"/>
                <a:gridCol w="1873080"/>
                <a:gridCol w="187164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tudent 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c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V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ground of a valley floodplain is more sloped than flat, therefore flooding can be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orthwest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Flooding can be very deep and can last for several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M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is floodplain is usually quite large, rapid, and is great of dep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long the 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ondition from the flood can last as long as a week or even long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flooding is not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roughout the majority of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flooding conditions usually last hours rather than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rchitectural structures along the coast are hit by high tides and storm sur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long the Golf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coast can be extremely damaged from severe coastal disast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Fifth flooding scenari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hen sewers and ditches can’t hold any more water, it over flows onto the stre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nywh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ater overflows onto the stree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nalyze floodpl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Worst floodplain scenario</a:t>
            </a:r>
            <a:r>
              <a:rPr b="0" lang="en-US" sz="1600" spc="-1" strike="noStrike" u="sng">
                <a:solidFill>
                  <a:srgbClr val="000000"/>
                </a:solidFill>
                <a:uFillTx/>
                <a:latin typeface="Arial"/>
                <a:ea typeface="굴림"/>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	</a:t>
            </a:r>
            <a:r>
              <a:rPr b="0" lang="en-US" sz="1600" spc="-1" strike="noStrike">
                <a:solidFill>
                  <a:srgbClr val="000000"/>
                </a:solidFill>
                <a:latin typeface="Arial"/>
                <a:ea typeface="굴림"/>
              </a:rPr>
              <a:t>In my opinion the coastal floodplain would be the worst floodplain. During a tropical storm or a hurricane, huge storm surges and waves would come and destroy Orso University. Creating the school on a coastal floodplain would endanger all of the students and staff. Not only would there be increased risks of injury or even death, but the destruction of Orso University would take time from learning and money for the costs of repair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Floodplains from best to wor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hallow floodplain- Flooding is not very deep and lasts several hours rather than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alley floodplain- Flooding only lasts for a few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Major River floodplains- Floods usually lasts for a week, sometimes long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oastal Floodplain- storm surges and waves would completely destroy and demolish everything in it’s path. A complete recovery from the storms would take a very long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5920"/>
        </p:xfrm>
        <a:graphic>
          <a:graphicData uri="http://schemas.openxmlformats.org/drawingml/2006/table">
            <a:tbl>
              <a:tblPr/>
              <a:tblGrid>
                <a:gridCol w="2057400"/>
                <a:gridCol w="2057400"/>
                <a:gridCol w="2087640"/>
                <a:gridCol w="2027160"/>
              </a:tblGrid>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ype of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atersh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looding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5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lear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edar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pring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unting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uffalo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Acquire-Hurricane Data questons</a:t>
            </a:r>
            <a:endParaRPr b="0" lang="en-US" sz="4000" spc="-1" strike="noStrike">
              <a:solidFill>
                <a:srgbClr val="000000"/>
              </a:solidFill>
              <a:latin typeface="Arial"/>
            </a:endParaRPr>
          </a:p>
        </p:txBody>
      </p:sp>
      <p:sp>
        <p:nvSpPr>
          <p:cNvPr id="53" name="PlaceHolder 2"/>
          <p:cNvSpPr>
            <a:spLocks noGrp="1"/>
          </p:cNvSpPr>
          <p:nvPr>
            <p:ph/>
          </p:nvPr>
        </p:nvSpPr>
        <p:spPr>
          <a:xfrm>
            <a:off x="323640" y="1484280"/>
            <a:ext cx="8459640" cy="45259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B. What is a storm surge?</a:t>
            </a:r>
            <a:r>
              <a:rPr b="0" lang="en-US" sz="1500" spc="-1" strike="noStrike">
                <a:solidFill>
                  <a:srgbClr val="000000"/>
                </a:solidFill>
                <a:latin typeface="Arial"/>
                <a:ea typeface="굴림"/>
              </a:rPr>
              <a:t> A storm surge is a large amount of water, usually 50 to 100 miles wide, that makes its way across the coastline when the hurricane makes landfall.</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C. Why is a storm surge such a huge problem in the Gulf of Mexico instead of places like the Atlantic Ocean? </a:t>
            </a:r>
            <a:r>
              <a:rPr b="0" lang="en-US" sz="1500" spc="-1" strike="noStrike">
                <a:solidFill>
                  <a:srgbClr val="000000"/>
                </a:solidFill>
                <a:latin typeface="Arial"/>
                <a:ea typeface="굴림"/>
              </a:rPr>
              <a:t>In the Gulf of Mexico, the water is more shallow so the storm surges are bigger.</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D. Explain the three causes of a storm surge. </a:t>
            </a:r>
            <a:r>
              <a:rPr b="0" lang="en-US" sz="1500" spc="-1" strike="noStrike">
                <a:solidFill>
                  <a:srgbClr val="000000"/>
                </a:solidFill>
                <a:latin typeface="Arial"/>
                <a:ea typeface="굴림"/>
              </a:rPr>
              <a:t>1)When high and low pressure builds, it sucks the sea toward the middle of the storm. 2) Hurricanes 3) Wave and current action associated with the tide.</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E. What makes a storm surge so devastating? </a:t>
            </a:r>
            <a:r>
              <a:rPr b="0" lang="en-US" sz="1500" spc="-1" strike="noStrike">
                <a:solidFill>
                  <a:srgbClr val="000000"/>
                </a:solidFill>
                <a:latin typeface="Arial"/>
                <a:ea typeface="굴림"/>
              </a:rPr>
              <a:t>Storm surges are extremely dangerous. It causes great damage and takes everything that’s in it’s way.</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Hurricane Data</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565160"/>
        </p:xfrm>
        <a:graphic>
          <a:graphicData uri="http://schemas.openxmlformats.org/drawingml/2006/table">
            <a:tbl>
              <a:tblPr/>
              <a:tblGrid>
                <a:gridCol w="2057400"/>
                <a:gridCol w="2057400"/>
                <a:gridCol w="2057400"/>
                <a:gridCol w="2057400"/>
              </a:tblGrid>
              <a:tr h="795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egory of hurricane that require evacua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torm surge height that would flood on campu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urricane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egory 3-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4.48-22.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egory 4-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Fault Data</a:t>
            </a:r>
            <a:endParaRPr b="0" lang="en-US" sz="4400" spc="-1" strike="noStrike">
              <a:solidFill>
                <a:srgbClr val="000000"/>
              </a:solidFill>
              <a:latin typeface="Arial"/>
            </a:endParaRPr>
          </a:p>
        </p:txBody>
      </p:sp>
      <p:graphicFrame>
        <p:nvGraphicFramePr>
          <p:cNvPr id="57" name=""/>
          <p:cNvGraphicFramePr/>
          <p:nvPr/>
        </p:nvGraphicFramePr>
        <p:xfrm>
          <a:off x="2195640" y="765000"/>
          <a:ext cx="6346800" cy="5830920"/>
        </p:xfrm>
        <a:graphic>
          <a:graphicData uri="http://schemas.openxmlformats.org/drawingml/2006/table">
            <a:tbl>
              <a:tblPr/>
              <a:tblGrid>
                <a:gridCol w="2116080"/>
                <a:gridCol w="2114640"/>
                <a:gridCol w="2116080"/>
              </a:tblGrid>
              <a:tr h="7711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aults nearby (high, medium,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rojected repair cost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igh( Magnolia Fault, Ship channel Fault, Battleground Fault, Faul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2,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5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7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est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igh ( Pecore Fault, Eureka Heights, Magnolia Fault, Ship Channel Fault, Battleground Fault, Clinton)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5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9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Medium ( Eureka Heights, Pecore Fault, Magnolia Fault, Clint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324000" y="765000"/>
            <a:ext cx="1655640" cy="543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F. The images included on the map are examples of which type of weathering?</a:t>
            </a:r>
            <a:r>
              <a:rPr b="0" lang="en-US" sz="1400" spc="-1" strike="noStrike">
                <a:solidFill>
                  <a:srgbClr val="000000"/>
                </a:solidFill>
                <a:latin typeface="Arial"/>
                <a:ea typeface="굴림"/>
              </a:rPr>
              <a:t> Physic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G. How far are Harris County’s faults moving per year?</a:t>
            </a:r>
            <a:r>
              <a:rPr b="0" lang="en-US" sz="1400" spc="-1" strike="noStrike">
                <a:solidFill>
                  <a:srgbClr val="000000"/>
                </a:solidFill>
                <a:latin typeface="Arial"/>
                <a:ea typeface="굴림"/>
              </a:rPr>
              <a:t>  0.2-0.8 inches per ye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H. How would faults and weathering impact your university? </a:t>
            </a:r>
            <a:r>
              <a:rPr b="0" lang="en-US" sz="1400" spc="-1" strike="noStrike">
                <a:solidFill>
                  <a:srgbClr val="000000"/>
                </a:solidFill>
                <a:latin typeface="Arial"/>
                <a:ea typeface="굴림"/>
              </a:rPr>
              <a:t>Because cracks would cause damage to the building, their would be costly repairs and a risk for inju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nalyze Fault Data</a:t>
            </a:r>
            <a:endParaRPr b="0" lang="en-US" sz="4400" spc="-1" strike="noStrike">
              <a:solidFill>
                <a:srgbClr val="000000"/>
              </a:solidFill>
              <a:latin typeface="Arial"/>
            </a:endParaRPr>
          </a:p>
        </p:txBody>
      </p:sp>
      <p:sp>
        <p:nvSpPr>
          <p:cNvPr id="6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	</a:t>
            </a:r>
            <a:r>
              <a:rPr b="1" lang="en-US" sz="1500" spc="-1" strike="noStrike">
                <a:solidFill>
                  <a:srgbClr val="000000"/>
                </a:solidFill>
                <a:latin typeface="Arial"/>
                <a:ea typeface="굴림"/>
              </a:rPr>
              <a:t>What types of problems do you anticipate from the fault data?</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If there are faults nearby, the chance of the university getting destroyed is likely. The costs of repairs would be very pricey. Teachers and students would also be at risk of getting hur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	</a:t>
            </a:r>
            <a:r>
              <a:rPr b="1" lang="en-US" sz="1500" spc="-1" strike="noStrike">
                <a:solidFill>
                  <a:srgbClr val="000000"/>
                </a:solidFill>
                <a:latin typeface="Arial"/>
                <a:ea typeface="굴림"/>
              </a:rPr>
              <a:t>The locations in order from worst to be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1.Downtown East 650 Oats Road- Out of the five locations, this one has the most faults. Repairs can cost around $5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2. Bayside 12328 Bay Area Blvd-Has several faults and repairs can cost around $2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3. Downtown Central 1400 Travis Street- A couple faults and repairs can cost around $1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4. NE Houston 12688 FM 1960- No Faults nearby and it has an estimated $5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5. West Tomball 29608 Liberty Lane- No faults nearby and has an estimated $1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3:18:01Z</dcterms:created>
  <dc:creator>In Hyouck Chung</dc:creator>
  <dc:description/>
  <dc:language>en-US</dc:language>
  <cp:lastModifiedBy>In Hyouck Chung</cp:lastModifiedBy>
  <dcterms:modified xsi:type="dcterms:W3CDTF">2008-10-08T23:08:37Z</dcterms:modified>
  <cp:revision>6</cp:revision>
  <dc:subject/>
  <dc:title>Orso University</dc:title>
</cp:coreProperties>
</file>