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0A9B3C-C922-4E2D-B249-1EBFA1160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B16DC-26C0-4B56-AAC7-60BCAD4D1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54C55-A97F-4EBB-9874-F89FADD18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F9E1B-0793-4AB6-BB3E-4ADCA8BC8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5A78E-34E9-480D-89BB-B6A5B5D80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3F01F-59E7-4A7A-A4FB-5E3B194F9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D5C81-33F7-4B7D-9315-7EC1517E2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AF710-F872-43F7-8C72-3B864F1EE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8551F-8B0B-4D82-AEBA-27BAA140C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DFD7C-D595-4553-B4AD-58F213A6A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66AA8-D5C4-43DE-9A3F-6E80D4AFB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5E14B-B76F-4A1E-8DFC-5DFB8E759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769E3-5EB1-4922-8837-DA3F4A8682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ha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Ramchandani</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
        <p:nvSpPr>
          <p:cNvPr id="42" name="WordArt 4"/>
          <p:cNvSpPr txBox="1"/>
          <p:nvPr/>
        </p:nvSpPr>
        <p:spPr>
          <a:xfrm>
            <a:off x="1809720" y="495360"/>
            <a:ext cx="52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overnment Officia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Argumen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encouraged the initial process of deforestation and are in favor of developing the rain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Reas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are the officials of the government, a few of our reasons for using the rainforest for economic development a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he excess of rainforest land in order to develop airports for tourism and the ability of trade with the help of infrastructu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se the coastal areas of the rainforest in order to create ports which can be used to manage the imports and exports that relate to the region in which the port exis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establish a sense of road-ways so the idea of break-of-bulk can be carried out to its full extent with the option of multiple routes in order for “deliveries” and jobs to be comple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changes that must be made, and are willing to be accepting to new “prime” sources of our econom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we are in charge of providing forms of infrastructure as well encouraging the action of settling in the rainforest, we cannot provide these necessities without the use of the rainforest, therefore the rainforest will either be of constant use, or our economy will suf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50000">
              <a:srgbClr val="00ff00"/>
            </a:gs>
            <a:gs pos="100000">
              <a:srgbClr val="008000"/>
            </a:gs>
          </a:gsLst>
          <a:lin ang="135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la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seriousness of the situation (with the possibility of the rainforest being “used up” completely) and are prepared to take suggestions from the people of the country in order to allow different forms of economic benef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Keep in mind, though, that the rainforest is a prime source of our “survival” and ability to “get by” in our lifestyle, so is ask yourself, is preserving the rainforest really worth the sacrifice? The choice is you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9Z</dcterms:created>
  <dc:creator>cfisd</dc:creator>
  <dc:description/>
  <dc:language>en-US</dc:language>
  <cp:lastModifiedBy>cfisd</cp:lastModifiedBy>
  <dcterms:modified xsi:type="dcterms:W3CDTF">2009-01-26T13:44:40Z</dcterms:modified>
  <cp:revision>4</cp:revision>
  <dc:subject/>
  <dc:title>Slide 1</dc:title>
</cp:coreProperties>
</file>