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7488A-AD3D-4CE7-99BB-08AD638B4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7C61B-0C3A-42BF-8AC6-A78978A43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BBA35A-DF8D-4C79-81DA-9838F6905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9FA598-9744-48B2-A9FB-FE4432D67F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EE14A-AF25-4E83-B707-D4FAB7657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B4210-FBDF-4F53-BC7F-952F547594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3483E-7487-47D7-8CF9-32A66D85F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1F711-2385-4571-B6C1-E16CE8EC2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B0413-7EA3-4C0F-9908-E508AA9F9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8756A-723C-4854-8BDB-EEFC2928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56E5C-5BEA-477E-8005-E55AFE586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A3B22-E336-4B12-B042-AC5C8A412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D756-8FD3-4FC3-8C99-AE223120CE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Keep in mind, though, that the rainforest is a prime source of our “survival” and ability to “get by” in our lifestyle, so is ask yourself, is preserving the rainforest really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3:44:40Z</dcterms:modified>
  <cp:revision>4</cp:revision>
  <dc:subject/>
  <dc:title>Slide 1</dc:title>
</cp:coreProperties>
</file>