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FBA57-A8CF-41D9-B7B7-14DFB0D05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C6DDC-97EC-4C98-B056-E41561873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B5882-8ED5-4AB3-9D8F-373F27979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6FA50-D959-4644-9710-04D1D7067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C0500-861F-48D3-9AFF-65FCFED01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08527-CA4E-46D5-B702-422A10BC4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17DFC-B1A3-4D2E-8A78-A318915E9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374EE-E95B-4E0C-B7EE-3D07D332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0CB8F-C8F5-4A22-BE94-7FF13B42E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100F4-ECCB-4DDB-8A6C-F25D51291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15CD-C1EB-4982-8141-AA17CEC2F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34CD-C475-458B-B15D-7FBB8D694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FBB1-8CC5-4EBA-BE69-DF8FE6E7AF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Keep in mind, though, that the rainforest is a prime source of our “survival” and ability to “get by” in our lifestyle, so is ask yourself, is preserving the rainforest really worth the sacrifice? The choice is y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6T13:44:40Z</dcterms:modified>
  <cp:revision>4</cp:revision>
  <dc:subject/>
  <dc:title>Slide 1</dc:title>
</cp:coreProperties>
</file>