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B5E-3009-45E1-91B8-18B84162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F21-7B57-459A-A848-D653FCB7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E98-C3F9-4956-9018-0DFDF168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ED9C-B0B9-49FC-B3C7-37121214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B62A-F508-4624-9DD1-3FCF696C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C83-FFEA-4B43-ACA1-A620E3F0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B4E-9EC1-4B62-AD22-3F3124A1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25D-520B-4663-8E5D-014B93A0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621-55BC-48AB-9568-2CF7A03A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0E04-8866-4AA5-A52E-D336AFA3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5934-F671-4B2D-B124-B471C1E5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C70-C48E-407F-8F16-2A65CC4B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32A1-8314-41F0-9E2B-1DEA987C1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quite an essay, but more than a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ques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is the United States economically powerful, politically successful, and culturally diver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ovid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st important rea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of the three topics in the ques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Justify your answers with details and examples from our analysis of the US and Canada in this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se your prewrite to guide your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write =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Response= 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Geography Writ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topic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nly your prewrite for assistance, no textboo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lang, internet talk/abbrevi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like the textbook or you’re in a job interview, be profes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in paragraph for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nt the first sentence of each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skip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bul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udent-created graphic organizer that allows you to organize your ideas you will write on your geographic respon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do i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cheat sheet for the essay and is worth 10% of your test g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wr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You can use your text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You can create your own graphic organizer if you do not like m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You must include all parts of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14400" y="152280"/>
            <a:ext cx="723888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PIC SENT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CONO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WER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48520" y="1523880"/>
            <a:ext cx="259056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ULTUR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I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52680" y="1523880"/>
            <a:ext cx="2590920" cy="3980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LI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ustific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6680" y="5791320"/>
            <a:ext cx="7315200" cy="78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CLU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133720" y="952560"/>
            <a:ext cx="11556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952560"/>
            <a:ext cx="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952560"/>
            <a:ext cx="914400" cy="571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548640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0" y="152280"/>
            <a:ext cx="21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writ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2:49:50Z</dcterms:created>
  <dc:creator>CFISD</dc:creator>
  <dc:description/>
  <dc:language>en-US</dc:language>
  <cp:lastModifiedBy>CFISD</cp:lastModifiedBy>
  <dcterms:modified xsi:type="dcterms:W3CDTF">2008-11-07T13:22:41Z</dcterms:modified>
  <cp:revision>4</cp:revision>
  <dc:subject/>
  <dc:title>Geographic Response</dc:title>
</cp:coreProperties>
</file>