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758-0E94-479D-922D-D25B0669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12A-A040-4ECE-9188-BCCC82C6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F51-B9A3-49EA-B63A-6368B8CA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657-858A-45D4-BF44-D215FA48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FC4-471A-4813-B003-B92DBA59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560-AD61-4D8C-A174-99389896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DA1-1CE6-4D4E-8738-F9B34100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120-FBF5-4832-9D04-2ACB9B38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891-C286-4EA8-991B-079B40E5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4B4-E716-46E0-B533-75599BAC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6EC-E2E9-4683-874A-511444A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9BC-89EE-46ED-B3E6-38447834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6D50-B4E1-4BC5-81F6-5D1AE727C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the United States economically powerful, politically successful, and culturally div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US and Canada in this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You can use your text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You can create your own graphic organizer if you do not like m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You must include all parts of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152280"/>
            <a:ext cx="72388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PIC SENT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LTUR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523880"/>
            <a:ext cx="259092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I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791320"/>
            <a:ext cx="73152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33720" y="952560"/>
            <a:ext cx="11556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952560"/>
            <a:ext cx="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952560"/>
            <a:ext cx="9144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0" y="1522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writ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07T13:22:41Z</dcterms:modified>
  <cp:revision>4</cp:revision>
  <dc:subject/>
  <dc:title>Geographic Response</dc:title>
</cp:coreProperties>
</file>