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8CBC-8083-40AD-B680-08503A78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336-91C1-49DC-B71F-5C42A3A0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7FE-3BD0-4BBE-82CF-5A95AB48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1C5C-183F-4EA5-9CB7-034F45D3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AB7-2F34-4B7E-BC4E-3CCA5BB8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B53-A3A6-445B-B9AC-53D194C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0955-212A-4E97-BB0F-20A2766E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511-89E1-4789-9A45-3DFFBB88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265-9EBD-4E9E-9E61-2002646C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1DEC-020F-4FA1-AC37-27FE8EE9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BB5-92A1-40CC-A348-8BE8983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D15E-7E14-4D78-8E1B-2BC9B22C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326E-FDD8-49C1-9C45-A3CD9818E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 United States economically powerful, politically successful, and culturally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US and Canada in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can use your text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You can create your own graphic organizer if you do not like m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You must include all parts of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52280"/>
            <a:ext cx="72388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PIC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LTU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523880"/>
            <a:ext cx="259092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91320"/>
            <a:ext cx="73152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52560"/>
            <a:ext cx="11556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9525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52560"/>
            <a:ext cx="9144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52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wri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07T13:22:41Z</dcterms:modified>
  <cp:revision>4</cp:revision>
  <dc:subject/>
  <dc:title>Geographic Response</dc:title>
</cp:coreProperties>
</file>