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164-E7C5-4525-9605-648A2757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585-6BAC-4469-8CED-B4B2B355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BB3-6271-4265-BF5D-75D8F1BC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F6F-C069-417C-8D84-E00A2FC7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CD4-735C-4AD1-9116-5DC005D4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743-2432-4F57-8D22-F2FC529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4D3-5A85-4EA0-AD06-C17297BD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6E0-D208-4C6B-943E-830F68D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7F4-1D78-4412-AB81-DD9F81CD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68E-B3C3-44ED-AA64-9575AE8D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E37-F6A8-4EC5-A49F-69E8585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71D-6522-406D-BA7E-512BCCD5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7C09-285F-4371-8E09-20783C822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the United States economically powerful, politically successful, and culturally div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US and Canada in t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ou can use your text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You can create your own graphic organizer if you do not like m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You must include all parts of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152280"/>
            <a:ext cx="72388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PIC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LTUR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523880"/>
            <a:ext cx="259092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791320"/>
            <a:ext cx="73152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720" y="952560"/>
            <a:ext cx="11556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952560"/>
            <a:ext cx="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952560"/>
            <a:ext cx="9144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0" y="152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writ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07T13:22:41Z</dcterms:modified>
  <cp:revision>4</cp:revision>
  <dc:subject/>
  <dc:title>Geographic Response</dc:title>
</cp:coreProperties>
</file>