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737B-5567-4BA2-9AB6-5DCAADD5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9059-EFF5-4B7C-842A-8846A13A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0BA-FC80-4B4E-84EA-A18B2B13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9A4A-40F6-4448-9E10-1453D4604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A327-9DC0-47F3-BE43-97FF4D238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5FFE-A465-414F-BFA6-4FFB48C8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20AA-703E-4F4E-988A-66D522E3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D95F-10C0-4267-94C4-D2579D99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87D1-BD46-461A-BCBB-73F4A918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D1B-6F56-46FD-A747-79362AB0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6F0-AC66-43C6-8161-82BA88D2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4B76-3F26-42C5-B825-EA7B1143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4A4E-207E-499F-8A3D-D7F79D2D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relationship between European colonization and the modern developing n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conomic, political, and social effects of European colonization on the developing nations of the world of to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swer the ques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Industrial Revolution and colonization in this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ic Sentence Creation -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write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had many economic, political, and social effects o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State your thesis (say what you’re gonna say before you say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uropean colonization was a major factor in the economic, political, and social problems in modern developing nation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-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18T15:05:38Z</dcterms:modified>
  <cp:revision>7</cp:revision>
  <dc:subject/>
  <dc:title>Geographic Response</dc:title>
</cp:coreProperties>
</file>