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973-B050-480D-8296-3074C398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CCC-34FE-47CE-8C48-705E2F55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96C-4D88-4696-9564-1FB8C6F3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DF44-3878-43BC-8063-4E0B353C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5B34-2CFE-484C-AB0E-B02892E8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779-33A6-4413-ACC3-171EE15F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97A-D26A-4593-B526-D784B07A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11AD-B812-4CD9-A6C6-6427D5F8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EF4D-ECA7-4376-9EC9-51D60438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9DE-2C12-4186-B74B-DBE92AD6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C67A-6F1D-45F1-9F0F-C7CBC66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E684-4A31-4CB7-8F8B-E3511B45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6E1B-FC70-4A66-86F7-94763A35D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quite an essay, but more than a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relationship between European colonization and the modern developing n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economic, political, and social effects of European colonization on the developing nations of the world of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swer the ques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vid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st important rea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ach of the three topics in the ques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Justify your answers with details and examples from our analysis of the Industrial Revolution and colonization in this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e your prewrite to guide your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write =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 Response=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Geography Wri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prewrite for assistance, no text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ang, internet talk/abbrevi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ike the textbook or you’re in a job interview, be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aragraph for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irst sentence of each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kip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 Sentence Creation -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write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ropean colonization had many economic, political, and social effects on modern developing n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State your thesis (say what you’re gonna say before you say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ropean colonization was a major factor in the economic, political, and social problems in modern developing n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-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-created graphic organizer that allows you to organize your ideas you will write on your geographic respo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cheat sheet for the essay and is worth 10% of your test g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49:50Z</dcterms:created>
  <dc:creator>CFISD</dc:creator>
  <dc:description/>
  <dc:language>en-US</dc:language>
  <cp:lastModifiedBy>CFISD</cp:lastModifiedBy>
  <dcterms:modified xsi:type="dcterms:W3CDTF">2008-11-18T15:05:38Z</dcterms:modified>
  <cp:revision>7</cp:revision>
  <dc:subject/>
  <dc:title>Geographic Response</dc:title>
</cp:coreProperties>
</file>