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FB4-F04F-4E84-8885-D815EEB1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83F-2F15-48A6-88A8-0E4C10F6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813-C199-4782-A47C-7D878937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FCFB-D9F2-4B07-B764-D32F3291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402-3FB1-4349-A927-A56DE6F7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1E3-CD73-4B7F-ABCB-E4A74DF5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0517-292D-4CF0-815E-7019472E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B0F5-F555-490F-AE15-D5E64812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C78E-D07A-4F64-871B-7F04A267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A6C-A1DF-4D85-85E5-66351F2B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B4E-7AF0-4C5B-97BD-7C66503F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D75-C1BE-4C94-94E7-4A2FA8D3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0B28-AF0E-41ED-9D48-0B541ADAE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ic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quite an essay, but more than a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ques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relationship between European colonization and the modern developing n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economic, political, and social effects of European colonization on the developing nations of the world of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nswer the ques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vide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st important rea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each of the three topics in the ques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Justify your answers with details and examples from our analysis of the Industrial Revolution and colonization in this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Use your prewrite to guide your 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write =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ic Response=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Geography Writ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topic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onc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nly your prewrite for assistance, no textboo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lang, internet talk/abbrevi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like the textbook or you’re in a job interview, be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in paragraph for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nt the first sentence of each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kip 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include bul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 Sentence Creation -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write th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uropean colonization had many economic, political, and social effects on modern developing natio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State your thesis (say what you’re gonna say before you say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uropean colonization was a major factor in the economic, political, and social problems in modern developing natio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-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-created graphic organizer that allows you to organize your ideas you will write on your geographic respon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your cheat sheet for the essay and is worth 10% of your test gr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2:49:50Z</dcterms:created>
  <dc:creator>CFISD</dc:creator>
  <dc:description/>
  <dc:language>en-US</dc:language>
  <cp:lastModifiedBy>CFISD</cp:lastModifiedBy>
  <dcterms:modified xsi:type="dcterms:W3CDTF">2008-11-18T15:05:38Z</dcterms:modified>
  <cp:revision>7</cp:revision>
  <dc:subject/>
  <dc:title>Geographic Response</dc:title>
</cp:coreProperties>
</file>