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8B2-B59D-4F46-B931-C1D3B0F1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FC1-6256-45CA-92D0-F45C4A62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D40-EC1C-4242-AE08-148FB5D1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02D-4933-4E74-9E22-0433E39C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FCC-05E9-4DB8-8AD0-37781482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666-1656-41E4-B70F-9993AD91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E6F-3DF0-4F7D-82F9-BFF5695A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AE1-D5B6-4817-9F03-944D8A1D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BA1-827B-4F07-BD0E-DA5A2F5C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455-4703-4C6E-A26F-B01BAD9B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5A4-638C-4A13-AD0D-329EA123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CFB-37ED-4ACF-AACD-47CD22DC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F93D-E652-4355-AB8C-C9A5AD8F4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quite an essay, but more than a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is the United States economically powerful, politically successful, and culturally dive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vid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 important r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ach of the three topics in the ques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ustify your answers with details and examples from our analysis of the US and Canada in this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e your prewrite to guide your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write =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phic Response=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Geography Writ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topic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ly your prewrite for assistance, no textboo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lang, internet talk/abbrevi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like the textbook or you’re in a job interview, be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n paragraph for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the first sentence of each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kip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bul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-created graphic organizer that allows you to organize your ideas you will write on your geographic respon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your cheat sheet for the essay and is worth 10% of your test gr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You can use your text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You can create your own graphic organizer if you do not like m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You must include all parts of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152280"/>
            <a:ext cx="723888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PIC SENT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523880"/>
            <a:ext cx="259056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Justific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1523880"/>
            <a:ext cx="259056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LTUR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1523880"/>
            <a:ext cx="259092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LI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Justific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791320"/>
            <a:ext cx="73152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133720" y="952560"/>
            <a:ext cx="115560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952560"/>
            <a:ext cx="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952560"/>
            <a:ext cx="91440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0" y="152280"/>
            <a:ext cx="21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writ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2:49:50Z</dcterms:created>
  <dc:creator>CFISD</dc:creator>
  <dc:description/>
  <dc:language>en-US</dc:language>
  <cp:lastModifiedBy>CFISD</cp:lastModifiedBy>
  <dcterms:modified xsi:type="dcterms:W3CDTF">2008-11-07T13:22:41Z</dcterms:modified>
  <cp:revision>4</cp:revision>
  <dc:subject/>
  <dc:title>Geographic Response</dc:title>
</cp:coreProperties>
</file>