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6A46-AF8C-45E1-A1DF-A916429F4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8A51-6F15-4C1B-B815-872E87330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A87A-A622-4D8A-A934-E00E9D0D9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A932-5668-4AAB-AD93-55D5B74BB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57BB-D44D-48C1-BD1D-CA1D0E643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C835-7234-4C67-BA14-5974D0AE5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69ED-ACDB-40CB-8D8D-E7E0911C1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28DB-B8E6-4AC3-9A08-C73AB9048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EA5C-C9D2-4551-B86C-E47892C6E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818D-366E-4A24-AC01-5A397623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0A01-32D9-4C81-89D3-75B1E44A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A592-9095-4BC3-9C60-A7E95077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5381A-7B4B-4D22-8B20-8002F0A73D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graphic 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quite an essay, but more than a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question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is the United States economically powerful, politically successful, and culturally diver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rovide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ost important reas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each of the three topics in the ques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Justify your answers with details and examples from our analysis of the US and Canada in this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Use your prewrite to guide your respo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write =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graphic Response= 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Geography Writing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topic sen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conclu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nly your prewrite for assistance, no textbook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lang, internet talk/abbrevia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like the textbook or you’re in a job interview, be profess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in paragraph form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nt the first sentence of each para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skip li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include bull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5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wr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it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udent-created graphic organizer that allows you to organize your ideas you will write on your geographic respon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do it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your cheat sheet for the essay and is worth 10% of your test grad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wr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u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You can use your textboo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You can create your own graphic organizer if you do not like mi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You must include all parts of the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14400" y="152280"/>
            <a:ext cx="7238880" cy="78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OPIC SENTE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523880"/>
            <a:ext cx="2590560" cy="398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CONOM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OWER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Important Reas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Justifica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248520" y="1523880"/>
            <a:ext cx="2590560" cy="398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ULTURAL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IVE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Important Reas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ifi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52680" y="1523880"/>
            <a:ext cx="2590920" cy="398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OLIT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UCCESS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Important Reas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Justifica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5791320"/>
            <a:ext cx="7315200" cy="78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NCLU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133720" y="952560"/>
            <a:ext cx="1155600" cy="571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952560"/>
            <a:ext cx="0" cy="571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952560"/>
            <a:ext cx="914400" cy="571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09680" y="548640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548640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934320" y="548640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0" y="152280"/>
            <a:ext cx="2124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rewrit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7T12:49:50Z</dcterms:created>
  <dc:creator>CFISD</dc:creator>
  <dc:description/>
  <dc:language>en-US</dc:language>
  <cp:lastModifiedBy>CFISD</cp:lastModifiedBy>
  <dcterms:modified xsi:type="dcterms:W3CDTF">2008-11-07T13:22:41Z</dcterms:modified>
  <cp:revision>4</cp:revision>
  <dc:subject/>
  <dc:title>Geographic Response</dc:title>
</cp:coreProperties>
</file>