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EB3-A22A-4AC1-9A3B-732FFAE1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2F2-D865-455C-9AEF-E6A56135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95F-8BEE-409C-8FAF-F1FA2EC0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87D2-76D9-4D0D-95D2-B540761B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3D8-D072-4727-B664-7EFF5079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1F35-AEB0-4C6B-B241-87B7D775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881-5EB0-4180-B0F5-54C77EDC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F52-C63A-42D1-838B-AB256C9A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A160-A430-475B-A3CD-FAC9DC08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56A1-90A8-48EF-80B0-1182ED2A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1D87-E70E-4400-BD39-71F81EAA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295-C56D-4773-8C69-3FC46406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96CF-9E6F-4B98-861B-A90561589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quite an essay, but more than a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relationship between European colonization and the modern developing n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economic, political, and social effects of European colonization on the developing nations of the world of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swer the ques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vide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st important rea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ach of the three topics in the ques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Justify your answers with details and examples from our analysis of the Industrial Revolution and colonization in this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se your prewrite to guide your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write =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ic Response=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Geography Writ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topic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ly your prewrite for assistance, no textboo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lang, internet talk/abbrevi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like the textbook or you’re in a job interview, be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n paragraph for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the first sentence of each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kip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bul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 Sentence Creation -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write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uropean colonization had many economic, political, and social effects on modern developing nat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State your thesis (say what you’re gonna say before you say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uropean colonization was a major factor in the economic, political, and social problems in modern developing nat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-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-created graphic organizer that allows you to organize your ideas you will write on your geographic respon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your cheat sheet for the essay and is worth 10% of your test gr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2:49:50Z</dcterms:created>
  <dc:creator>CFISD</dc:creator>
  <dc:description/>
  <dc:language>en-US</dc:language>
  <cp:lastModifiedBy>CFISD</cp:lastModifiedBy>
  <dcterms:modified xsi:type="dcterms:W3CDTF">2008-11-18T15:05:38Z</dcterms:modified>
  <cp:revision>7</cp:revision>
  <dc:subject/>
  <dc:title>Geographic Response</dc:title>
</cp:coreProperties>
</file>