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8847-1C2D-4C1F-B8F0-ECF7EC81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833F-606B-498A-BC95-37106F6E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11A0-D24C-4F67-9E61-1F6B92B94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5C9-8A17-4228-861D-C8235194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671-0A20-430D-B11D-CB96B2DA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3788-43E1-4690-9C6E-2BB3AE08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586F-88CC-40CC-85FE-A4D5FC406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4A7-D66A-498B-B333-A50FD6EF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F4F-D962-43ED-9552-AB7E42DE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EEF-46CF-4EF7-8408-54B6CA79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B38-FAB2-4035-8131-5E089028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5DF-7D32-4756-9A4E-08374F6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A32E-5D23-4482-8463-49E5A646A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9/9f/GEO_Globe.jpg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upload.wikimedia.org/wikipedia/commons/c/cf/Worldmap_LandAndPolitical.jpg" TargetMode="External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er’s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ey use to help them analyz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 #3 - Demo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graphics – data collected about the characteristics of a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would this fit u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04920" y="4648320"/>
            <a:ext cx="182880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Ag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581280" y="4114800"/>
            <a:ext cx="1428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nc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562720" y="4952880"/>
            <a:ext cx="2867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Education level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172200" y="3886200"/>
            <a:ext cx="22953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Employ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5638680"/>
            <a:ext cx="16383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thnicity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25926" t="18521" r="11112" b="3434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4 and #5 -  Charts and 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5 A’s does creating charts and graphs f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62120" y="3048120"/>
            <a:ext cx="74674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27502" t="20003" r="18336" b="23335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e data in a chart…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1600200"/>
          <a:ext cx="914400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0020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data we collected to create 2 bar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labels on each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2 pie graphs using the demographics we collected about th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orrect percentages and try to create accurate pie 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the perce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es vs. 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are the CEO of a company in charge of determining which you should produce more of maps or glob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5 A’s must you star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800600"/>
            <a:ext cx="161316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BINSON PROJECTION – the earth “unfolded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290600"/>
            <a:ext cx="9144000" cy="48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PROJECTION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00200" y="1273320"/>
            <a:ext cx="5943600" cy="55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ZIMUTHAL – a picture of the glo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601992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23920" y="27432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or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loss of accu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bigger Greenland or South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Partial Mercator map"/>
          <p:cNvPicPr/>
          <p:nvPr/>
        </p:nvPicPr>
        <p:blipFill>
          <a:blip r:embed="rId2"/>
          <a:stretch/>
        </p:blipFill>
        <p:spPr>
          <a:xfrm>
            <a:off x="0" y="0"/>
            <a:ext cx="46623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38280" y="609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reen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5053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th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ols #1 and # 2 - Globes vs. M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 of glo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racteristics of map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orts size, shape,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Image:GEO Glob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4800600"/>
            <a:ext cx="1613160" cy="1862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Worldmap LandAndPolitical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257800" y="5105520"/>
            <a:ext cx="297180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20:01:06Z</dcterms:created>
  <dc:creator>CFISD</dc:creator>
  <dc:description/>
  <dc:language>en-US</dc:language>
  <cp:lastModifiedBy>CFISD</cp:lastModifiedBy>
  <dcterms:modified xsi:type="dcterms:W3CDTF">2008-09-03T21:33:55Z</dcterms:modified>
  <cp:revision>9</cp:revision>
  <dc:subject/>
  <dc:title>Geographer’s Tools</dc:title>
</cp:coreProperties>
</file>