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F278-C629-4A3B-A9FB-79FB512FA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0C20-E341-4566-AE89-5A2FB446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5C91-EF1D-435F-A9F4-BDCDDA6E4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B139-D024-478E-84FF-2D5D9DDD3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A697-3A74-435F-8D0C-D1835446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D6A9-3E59-4ADB-9E46-87AFA157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CB7F-BAFE-4632-A256-510A5E49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C62B-658E-4EE4-B8BD-6A7588CC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994A-440B-4E5A-BE47-67C92AB5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1641-DDD0-486A-B211-059A6A9B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864C-BD2B-4FE1-B07D-397F8DD6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5418-3480-40E9-A31F-0312CA6C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BDC6-5889-4F38-BA85-51C4F861C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9/9f/GEO_Globe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9/9f/GEO_Globe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upload.wikimedia.org/wikipedia/commons/c/cf/Worldmap_LandAndPolitical.jpg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grapher’s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hey use to help them analyze spatial relationshi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 #3 - Demograp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graphics – data collected about the characteristics of a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5 A’s would this fit un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04920" y="4648320"/>
            <a:ext cx="1828800" cy="90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ge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581280" y="4114800"/>
            <a:ext cx="14288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nc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562720" y="4952880"/>
            <a:ext cx="2867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ducation level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172200" y="3886200"/>
            <a:ext cx="22953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Employ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362320" y="5638680"/>
            <a:ext cx="1638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thnicit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rcRect l="25926" t="18521" r="11112" b="3434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ols #4 and #5 -  Charts and Grap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5 A’s does creating charts and graphs f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62120" y="3048120"/>
            <a:ext cx="74674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rcRect l="27502" t="20003" r="18336" b="23335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e data in a chart…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0" y="1600200"/>
          <a:ext cx="9144000" cy="19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00200"/>
                    <a:ext cx="91440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data we collected to create 2 bar graphs using the demographics we collected about th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labels on each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2 pie graphs using the demographics we collected about th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the correct percentages and try to create accurate pie 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the perce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600200"/>
                <a:gridCol w="4572000"/>
                <a:gridCol w="205740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e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MPs – Foc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tial Analy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Themes of Geograph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A’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es vs. 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the CEO of a company in charge of determining which you should produce more of maps or glob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5 A’s must you start with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ols #1 and #2 - Globes vs. Ma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characteristic of glob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e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-dimen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characteristics of map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Image:GEO Glob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3880" y="4800600"/>
            <a:ext cx="161316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BINSON PROJECTION – the earth “unfolded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1290600"/>
            <a:ext cx="9144000" cy="48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ZIMUTHAL PROJECTION – a picture of the glob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00200" y="1273320"/>
            <a:ext cx="5943600" cy="558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ZIMUTHAL – a picture of the glob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601992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23920" y="2743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or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288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loss of accu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is bigger Greenland or South Americ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Partial Mercator map"/>
          <p:cNvPicPr/>
          <p:nvPr/>
        </p:nvPicPr>
        <p:blipFill>
          <a:blip r:embed="rId2"/>
          <a:stretch/>
        </p:blipFill>
        <p:spPr>
          <a:xfrm>
            <a:off x="0" y="0"/>
            <a:ext cx="46623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438280" y="609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reen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350532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uth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ols #1 and # 2 - Globes vs. Ma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characteristic of glob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e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-dimen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characteristics of map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dimen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orts size, shape,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Image:GEO Glob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66680" y="4800600"/>
            <a:ext cx="1613160" cy="1862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Image:Worldmap LandAndPolitical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257800" y="5105520"/>
            <a:ext cx="2971800" cy="15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20:01:06Z</dcterms:created>
  <dc:creator>CFISD</dc:creator>
  <dc:description/>
  <dc:language>en-US</dc:language>
  <cp:lastModifiedBy>CFISD</cp:lastModifiedBy>
  <dcterms:modified xsi:type="dcterms:W3CDTF">2008-09-03T21:33:55Z</dcterms:modified>
  <cp:revision>9</cp:revision>
  <dc:subject/>
  <dc:title>Geographer’s Tools</dc:title>
</cp:coreProperties>
</file>