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24EE-4C49-4E7D-AA3F-A88EB12D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45DC-C998-4730-86F3-F1EB881F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018-4C95-40FE-8954-2CB0A623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ABD9-A958-4D56-9B9E-D2052D8E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D85-0DED-4F49-9A87-1DFDFC7A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8A30-F5D5-4F8C-8240-C84AFD07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E08-3A93-4957-8498-4E71FFA6D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D267-AA4F-4047-AE64-EB15DB1F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AF0F-A8A5-46AD-9130-C877BDD2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7E1-B289-4299-BE65-D9620F1C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A59D-68BF-4CF8-85E3-784BC977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2826-D651-4D99-B437-ABFB282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0AF4-04A8-4183-8F2F-F6C261B4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f/GEO_Glob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f/GEO_Globe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pload.wikimedia.org/wikipedia/commons/c/cf/Worldmap_LandAndPolitical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er’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y use to help them analyz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3 - 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s – data collected about the characteristics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5 A’s would this fit u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4648320"/>
            <a:ext cx="182880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g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81280" y="4114800"/>
            <a:ext cx="1428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62720" y="4952880"/>
            <a:ext cx="2867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ducation leve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72200" y="3886200"/>
            <a:ext cx="2295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mploy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62320" y="5638680"/>
            <a:ext cx="163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thni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5926" t="18521" r="11112" b="34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4 and #5 -  Charts and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5 A’s does creating charts and graphs f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74674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27502" t="20003" r="18336" b="23335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 data in a chart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60020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ata we collected to create 2 bar graphs using the demographics we collected about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labels on each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2 pie graphs using the demographics we collected about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orrect percentages and try to create accurate pi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the 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es vs.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the CEO of a company in charge of determining which you should produce more of maps or gl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5 A’s must you start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1 and #2 - Globes vs.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 of glo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s of ma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Image:GEO Glob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4800600"/>
            <a:ext cx="1613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INSON PROJECTION – the earth “unfold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290600"/>
            <a:ext cx="914400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MUTHAL PROJECTION – a picture of the g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00200" y="1273320"/>
            <a:ext cx="5943600" cy="55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MUTHAL – a picture of the g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019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ss of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bigger Greenland or South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Partial Mercator map"/>
          <p:cNvPicPr/>
          <p:nvPr/>
        </p:nvPicPr>
        <p:blipFill>
          <a:blip r:embed="rId2"/>
          <a:stretch/>
        </p:blipFill>
        <p:spPr>
          <a:xfrm>
            <a:off x="0" y="0"/>
            <a:ext cx="4662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38280" y="609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50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1 and # 2 - Globes vs.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 of glo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s of ma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orts size, shape,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Image:GEO Glob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4800600"/>
            <a:ext cx="1613160" cy="1862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Image:Worldmap LandAndPolitica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5105520"/>
            <a:ext cx="29718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20:01:06Z</dcterms:created>
  <dc:creator>CFISD</dc:creator>
  <dc:description/>
  <dc:language>en-US</dc:language>
  <cp:lastModifiedBy>CFISD</cp:lastModifiedBy>
  <dcterms:modified xsi:type="dcterms:W3CDTF">2008-09-03T21:33:55Z</dcterms:modified>
  <cp:revision>9</cp:revision>
  <dc:subject/>
  <dc:title>Geographer’s Tools</dc:title>
</cp:coreProperties>
</file>