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947-D28F-421D-8605-3FF85E4C8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976E-15A5-4EEC-84E1-10EA7576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3DBC-570D-496E-BDD5-5A339C9E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E75-3897-428F-95ED-06AFABC2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F05-D023-4415-AA6C-AE9D14F7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1968-EBB7-4D24-8026-99631335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586-CD16-4C1F-B2F2-8A4A82DBC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5A54-95B1-47FB-A952-87E15C2E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E060-0AF1-4693-8B10-4ABA2804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B135-8C0F-44CD-ACA3-C57B07C7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75B-4724-4A9F-9D39-39F63ED0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A34F-904D-495E-9D30-A5F58A77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3B51-FC51-4E28-8C5B-F8652EC69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er’s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y use to help them analyze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quir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alyz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rang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naly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ers must determine which is the most important b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z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might make decisions after analyzing this map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A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ng on the decisions that were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What actions may change based on the ma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#6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ographic Information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formation stored in digital databases used by geograp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ite the name of your favorite celebrity in your noteboo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2057400"/>
          <a:ext cx="8229600" cy="4114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 he/she will ne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 to do for fu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t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 frie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GI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ographers use ________________ to display different types of information on Ma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information is stored in ________________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s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celebrity friend has only one day to spend with you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ool could you use to ensure that you do everything on your list in one 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#7 - G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lobal Position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– using satellites to determine absolute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how turn-by-turn directions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uld this help a geograp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tend you have a GPS in your hand.  Create turn-by-turn directions to the lunch room, auditorium, gym, your bus line, Wal-Mart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1:33:09Z</dcterms:created>
  <dc:creator>CFISD</dc:creator>
  <dc:description/>
  <dc:language>en-US</dc:language>
  <cp:lastModifiedBy>CFISD</cp:lastModifiedBy>
  <dcterms:modified xsi:type="dcterms:W3CDTF">2008-09-03T21:33:19Z</dcterms:modified>
  <cp:revision>1</cp:revision>
  <dc:subject/>
  <dc:title>Geographer’s Tools</dc:title>
</cp:coreProperties>
</file>