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33E2-652A-4CA1-8C28-7A7F9253A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76E-44A1-4839-9680-7B02C18F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9940-71CB-4B3E-97E1-35F960DF0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35A6-3EB4-46E7-9D5B-2831CF05E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4197-2E28-4DF3-B634-836D63B8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898-EA46-447B-BF44-1C9BCE29A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45B2-3FCA-4380-9FDF-5823463D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CCF0-24F7-4980-859F-F23B68DE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E827-E526-4DD9-BBA5-080228FE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FBCD-11B9-4512-8651-619883C5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642-C0E4-4A8B-96D0-ABC810A4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355-5F6E-4DA9-B9E7-689737BE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E065-C15E-496E-9721-6F222A94A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er’s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y use to help them analyz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qui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alyz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ng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naly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ers must determine which is the most important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might make decisions after analyzing this ma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ng on the decisions that wer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What actions may change based on the m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6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ographic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 stored in digital databases used by geogra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 name of your favorite celebrity in your noteboo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2057400"/>
          <a:ext cx="8229600" cy="411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he/she will n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to do for f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frie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ographers use ________________ to display different types of information on Ma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information is stored in _______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elebrity friend has only one day to spend with yo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ol could you use to ensure that you do everything on your list in one 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7 - G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lobal Position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– using satellites to determine absolut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urn-by-turn direction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this help a geograp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you have a GPS in your hand.  Create turn-by-turn directions to the lunch room, auditorium, gym, your bus line, Wal-Mart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1:33:09Z</dcterms:created>
  <dc:creator>CFISD</dc:creator>
  <dc:description/>
  <dc:language>en-US</dc:language>
  <cp:lastModifiedBy>CFISD</cp:lastModifiedBy>
  <dcterms:modified xsi:type="dcterms:W3CDTF">2008-09-03T21:33:19Z</dcterms:modified>
  <cp:revision>1</cp:revision>
  <dc:subject/>
  <dc:title>Geographer’s Tools</dc:title>
</cp:coreProperties>
</file>