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01666-C593-4270-9C22-FEDAE4E6E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23B09-9CF6-46DA-BDB6-EE8CA69AE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6A746-3871-48DF-A65C-61BB1A39C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C7A49-9BCF-4024-B4FC-B2D69B8BB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292E6-7280-4880-8463-6EB6D5711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97ACF-15F5-4240-959E-DD84C0E18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1468E-CAC8-4968-8520-781D89609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ACB21-5A80-45A3-9D04-A7E074FFB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39838-24F8-470B-BCEA-33507C37A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B81E0-FD01-47E5-8041-6C94614D2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33D0D-B1E6-4D9B-B410-CEBE587C4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E2DD6-11FD-4612-838B-7C9400BD2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7AF73-84A9-449B-91A1-38496E6751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ographer’s Too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they use to help them analyze spatial relationship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8229600" cy="58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k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cquire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alyze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rrange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pp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Analy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ographers must determine which is the most important by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alyz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o might make decisions after analyzing this map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App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ng on the decisions that were ma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 What actions may change based on the map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ol #6 </a:t>
            </a:r>
            <a:r>
              <a:rPr b="0" lang="en-US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G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S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Geographic Information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formation stored in digital databases used by geograp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rite the name of your favorite celebrity in your notebook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457200" y="2057400"/>
          <a:ext cx="8229600" cy="41144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18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ngs he/she will ne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ngs to do for fu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0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te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sit friend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GIS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Geographers use ________________ to display different types of information on Maps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The information is stored in ________________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isi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r celebrity friend has only one day to spend with you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tool could you use to ensure that you do everything on your list in one day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ol #7 - G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PS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Global Positioning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– using satellites to determine absolute lo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p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lain how turn-by-turn directions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could this help a geograph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tend you have a GPS in your hand.  Create turn-by-turn directions to the lunch room, auditorium, gym, your bus line, Wal-Mart, etc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3T21:33:09Z</dcterms:created>
  <dc:creator>CFISD</dc:creator>
  <dc:description/>
  <dc:language>en-US</dc:language>
  <cp:lastModifiedBy>CFISD</cp:lastModifiedBy>
  <dcterms:modified xsi:type="dcterms:W3CDTF">2008-09-03T21:33:19Z</dcterms:modified>
  <cp:revision>1</cp:revision>
  <dc:subject/>
  <dc:title>Geographer’s Tools</dc:title>
</cp:coreProperties>
</file>