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F1E6-121A-415C-AEA9-0A22EE0B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BFA5-2462-4D71-9BC1-77A80D95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D5D-07BA-48CA-B1B3-56749515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C6F-6153-404F-94C7-CA6A38BC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F09-607D-4045-A229-8BA6CC8F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4A6C-DFF5-44C0-A865-D289DE14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D70-1C99-4B7F-A0F3-15BCF18B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539-5B42-4FCC-9221-1909A58A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FB15-E2E4-4695-B244-3384502E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24E-E2DD-4012-AD46-C78F25C6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88D-3EB5-41BF-B659-CBAFA1F1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7F54-E3EB-4846-94C3-A61E8B30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BCB0-C43E-4BD2-9743-72EA4EA98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f/GEO_Glob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f/GEO_Globe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pload.wikimedia.org/wikipedia/commons/c/cf/Worldmap_LandAndPolitical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er’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y use to help them analyz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3 - 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s – data collected about the characteristics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5 A’s would this fit u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4648320"/>
            <a:ext cx="182880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g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81280" y="4114800"/>
            <a:ext cx="1428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62720" y="4952880"/>
            <a:ext cx="2867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ducation leve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72200" y="3886200"/>
            <a:ext cx="2295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mploy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62320" y="5638680"/>
            <a:ext cx="163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thni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5926" t="18521" r="11112" b="34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4 and #5 -  Charts and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5 A’s does creating charts and graphs f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74674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27502" t="20003" r="18336" b="23335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 data in a chart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60020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ata we collected to create 2 bar graphs using the demographics we collected about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labels on each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2 pie graphs using the demographics we collected about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orrect percentages and try to create accurate pi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the 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es vs.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the CEO of a company in charge of determining which you should produce more of maps or gl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5 A’s must you start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1 and #2 - Globes vs.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 of glo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s of ma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Image:GEO Glob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4800600"/>
            <a:ext cx="1613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INSON PROJECTION – the earth “unfold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290600"/>
            <a:ext cx="914400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MUTHAL PROJECTION – a picture of the g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00200" y="1273320"/>
            <a:ext cx="5943600" cy="55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MUTHAL – a picture of the g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019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ss of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bigger Greenland or South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Partial Mercator map"/>
          <p:cNvPicPr/>
          <p:nvPr/>
        </p:nvPicPr>
        <p:blipFill>
          <a:blip r:embed="rId2"/>
          <a:stretch/>
        </p:blipFill>
        <p:spPr>
          <a:xfrm>
            <a:off x="0" y="0"/>
            <a:ext cx="4662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38280" y="609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50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1 and # 2 - Globes vs.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 of glo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s of ma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orts size, shape,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Image:GEO Glob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4800600"/>
            <a:ext cx="1613160" cy="1862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Image:Worldmap LandAndPolitica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5105520"/>
            <a:ext cx="29718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20:01:06Z</dcterms:created>
  <dc:creator>CFISD</dc:creator>
  <dc:description/>
  <dc:language>en-US</dc:language>
  <cp:lastModifiedBy>CFISD</cp:lastModifiedBy>
  <dcterms:modified xsi:type="dcterms:W3CDTF">2008-09-03T21:33:55Z</dcterms:modified>
  <cp:revision>9</cp:revision>
  <dc:subject/>
  <dc:title>Geographer’s Tools</dc:title>
</cp:coreProperties>
</file>