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06E8-EC3F-4035-AE63-EF4BA50F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B9A-2349-4AFD-979B-D89356B0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ADE1-FE11-452D-B517-4CAA4101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D8C6-3C8C-4271-82CD-8D09C82B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9DC0-9D11-4689-9452-25DD1BB9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FFFF-3560-4862-94A8-2421A0E6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A72A-1CF5-4165-8159-45D9FA4A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844-C984-4430-8BAE-14F19A9D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B650-B863-430B-981A-A6B2632D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64D8-0A32-4CED-A06C-2BBA290B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F1E1-8B10-4C10-8EAD-6C199C05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7213-906F-4D89-AC58-415BC0F0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C77C-15BD-44BB-8036-FE5EDC022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9/9f/GEO_Globe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9/9f/GEO_Globe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upload.wikimedia.org/wikipedia/commons/c/cf/Worldmap_LandAndPolitical.jp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er’s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ey use to help them analyze spatial relation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 #3 - Demo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graphics – data collected about the characteristics of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5 A’s would this fit un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4648320"/>
            <a:ext cx="1828800" cy="90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g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581280" y="4114800"/>
            <a:ext cx="14288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c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562720" y="4952880"/>
            <a:ext cx="2867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ducation level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172200" y="3886200"/>
            <a:ext cx="22953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mploy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362320" y="5638680"/>
            <a:ext cx="163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thnic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5926" t="18521" r="11112" b="343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ols #4 and #5 -  Charts and 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5 A’s does creating charts and graphs f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74674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rcRect l="27502" t="20003" r="18336" b="23335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e data in a chart…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0" y="1600200"/>
          <a:ext cx="914400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00200"/>
                    <a:ext cx="9144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data we collected to create 2 bar graphs using the demographics we collected about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labels on each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2 pie graphs using the demographics we collected about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correct percentages and try to create accurate pie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the perce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s – Foc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Themes of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es vs.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the CEO of a company in charge of determining which you should produce more of maps or glob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5 A’s must you start wit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ols #1 and #2 - Globes vs. 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aracteristic of glob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dimen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aracteristics of ma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Image:GEO Glob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4800600"/>
            <a:ext cx="16131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BINSON PROJECTION – the earth “unfolde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290600"/>
            <a:ext cx="9144000" cy="48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ZIMUTHAL PROJECTION – a picture of the glo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00200" y="1273320"/>
            <a:ext cx="5943600" cy="55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ZIMUTHAL – a picture of the glo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0199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23920" y="2743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o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288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loss of 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bigger Greenland or South Amer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Partial Mercator map"/>
          <p:cNvPicPr/>
          <p:nvPr/>
        </p:nvPicPr>
        <p:blipFill>
          <a:blip r:embed="rId2"/>
          <a:stretch/>
        </p:blipFill>
        <p:spPr>
          <a:xfrm>
            <a:off x="0" y="0"/>
            <a:ext cx="46623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438280" y="609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ree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35053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u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ols #1 and # 2 - Globes vs. 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aracteristic of glob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dimen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aracteristics of ma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dimen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orts size, shape,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Image:GEO Glob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66680" y="4800600"/>
            <a:ext cx="1613160" cy="1862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Image:Worldmap LandAndPolitical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57800" y="5105520"/>
            <a:ext cx="297180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20:01:06Z</dcterms:created>
  <dc:creator>CFISD</dc:creator>
  <dc:description/>
  <dc:language>en-US</dc:language>
  <cp:lastModifiedBy>CFISD</cp:lastModifiedBy>
  <dcterms:modified xsi:type="dcterms:W3CDTF">2008-09-03T21:33:55Z</dcterms:modified>
  <cp:revision>9</cp:revision>
  <dc:subject/>
  <dc:title>Geographer’s Tools</dc:title>
</cp:coreProperties>
</file>