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497-435E-4557-BE37-64E363D9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B5B-81B9-4F03-99CB-A57AFAA4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EE2-5447-4F2B-815B-2593650C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8F9C-EAC7-4F05-833D-32758B86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1DF9-8443-415E-A18B-FE251A45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E54-7BAE-4E4F-845C-6C51B0C0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6A8-96A8-4C52-BF5E-3E255A7E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AD66-9DDF-4FF6-AD69-ECE9C7FE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81C-0295-40AB-92EC-70ED4D25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6C0-7508-4E6C-86C2-F7FCFBDD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1F7-8DB3-4AED-B304-E4C12B6D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CFB6-5AB9-4784-87C2-43C4AC32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74B7-0F40-4F71-AD07-D14CCC63A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er’s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y use to help them analyze spati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quir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alyz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ng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naly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ers must determine which is the most important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might make decisions after analyzing this map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ng on the decisions that were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What actions may change based on the m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#6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ographic Inform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formation stored in digital databases used by geogra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 name of your favorite celebrity in your noteboo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2057400"/>
          <a:ext cx="8229600" cy="4114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 he/she will n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 to do for f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 frie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G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ographers use ________________ to display different types of information on Map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information is stored in ________________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i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elebrity friend has only one day to spend with you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ol could you use to ensure that you do everything on your list in one 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#7 - G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lobal Position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– using satellites to determine absolute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urn-by-turn direction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uld this help a geograp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end you have a GPS in your hand.  Create turn-by-turn directions to the lunch room, auditorium, gym, your bus line, Wal-Mart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1:33:09Z</dcterms:created>
  <dc:creator>CFISD</dc:creator>
  <dc:description/>
  <dc:language>en-US</dc:language>
  <cp:lastModifiedBy>CFISD</cp:lastModifiedBy>
  <dcterms:modified xsi:type="dcterms:W3CDTF">2008-09-03T21:33:19Z</dcterms:modified>
  <cp:revision>1</cp:revision>
  <dc:subject/>
  <dc:title>Geographer’s Tools</dc:title>
</cp:coreProperties>
</file>