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62C3-C458-4B9A-B1E1-4BEDBEBD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9A77-A491-4414-99BD-B3A46C0C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E672-0356-4464-A881-1EF2F1F9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C605-317C-45FB-800A-AD056D06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3E1A-15F6-4085-B1BD-545BE96A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93B6-971E-4567-A1C2-C7CBCE9D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041E-8963-4F92-B1CC-17378AF2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3F3F-17ED-49B6-A3E5-2E2F9407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497A-F57A-4A91-B9C1-168C1F98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6389-649D-4F1A-802D-7A75B6A5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1F06-BA27-4988-818A-A38C2D0F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291E-E3D3-4EAA-B8C1-A61A5BFF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93CB-47A8-4DA0-A07F-E035A5792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Jinnah_Gandhi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rso2ndperiod.wikispaces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nd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Jinnah with Gandhi, 1944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0"/>
            <a:ext cx="8839080" cy="680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228600"/>
            <a:ext cx="4419720" cy="57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Gand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VIOLENT RES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end British coloniz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ed fasting, marches, and protests as a form of confli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ot the media to report against the Brit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tish Decolo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wo main fa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administrative costs needed to suppress Indian activists proved too much as England recovered from the economic devastation of World War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United States pressured its European ally to withdraw its colonial intere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43800" y="304920"/>
            <a:ext cx="1143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ndhi Cl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As you watch the clip, create the explanation for the event on the timeline assignment called Gandhi’s Salt M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ndhi’s Salt Marc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ndhi Task - Clo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 Question of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real-life example where you use non-violent resistance against a group, organization, or policy that you disagree wi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 for Time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Go to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rso2ndperiod.wikispaces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Click 5th Marking Period, scroll down to Thursday, Week 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Click on the Timeline Websit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2:19:29Z</dcterms:created>
  <dc:creator>CFISD</dc:creator>
  <dc:description/>
  <dc:language>en-US</dc:language>
  <cp:lastModifiedBy>CFISD</cp:lastModifiedBy>
  <dcterms:modified xsi:type="dcterms:W3CDTF">2009-03-26T20:02:30Z</dcterms:modified>
  <cp:revision>7</cp:revision>
  <dc:subject/>
  <dc:title>Slide 1</dc:title>
</cp:coreProperties>
</file>