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5B3-81DC-481A-93BA-DBEA43F9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DA5-F2CA-44D7-A250-E7D407D9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A1E8-5C9D-4792-AF8F-6E706B5C9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2C1-355B-472A-8138-F323C3AB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7F5B-D32C-4BB3-83D7-94E92610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812-79A6-40C1-B1DD-55765AF1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CBB7-4810-44F3-B560-E1A0EF69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82C7-4CCB-4627-B198-354E8130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18E2-C2F3-4DEA-AA3A-8F55520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E37-E3B9-4808-B918-D4CF3B92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31E-1F74-4086-ACE3-8CAD971B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914-2426-4635-977C-E42E297B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4474-E2AE-44F5-B9AB-5E550B059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Jinnah_Gandhi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Jinnah with Gandhi, 1944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04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228600"/>
            <a:ext cx="4419720" cy="579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VIOLENT 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end British colo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Used fasting, marches, and protests as a form of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ot the media to report against the Brit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tish Decolo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wo main fa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he administrative costs needed to suppress Indian activists proved too much as England recovered from the economic devastation of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 United States pressured its European ally to withdraw its colonial intere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43800" y="304920"/>
            <a:ext cx="1143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andhi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As you watch the clip, create the explanation for the event on the timeline assignment called Gandhi’s Salt M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ndhi’s Salt Marc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ndhi Task - Cl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the Question of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real-life example where you use non-violent resistance against a group, organization, or policy that you disagree wi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for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Go to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Click 5th Marking Period, scroll down to Thursday, Week 3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Click on the Timeline Websit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19:29Z</dcterms:created>
  <dc:creator>CFISD</dc:creator>
  <dc:description/>
  <dc:language>en-US</dc:language>
  <cp:lastModifiedBy>CFISD</cp:lastModifiedBy>
  <dcterms:modified xsi:type="dcterms:W3CDTF">2009-03-26T20:02:30Z</dcterms:modified>
  <cp:revision>7</cp:revision>
  <dc:subject/>
  <dc:title>Slide 1</dc:title>
</cp:coreProperties>
</file>