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A95-2FBB-4BC2-9340-ACA641F7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313-FB70-4059-8287-211F58D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59D-A124-49D8-9AF3-AF661F6E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ACE-4024-490C-AB64-FF26E194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45D-8733-41CC-809D-30CAA41C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145-BCAC-425C-BE13-771F7725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BF8-CBCF-43A1-A14A-926B6140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660-CCFF-451F-9602-479AA8E8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2D0-7B41-4FC0-9F0A-73D3764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4E7-D1AC-4C03-9AFE-A650ECB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B46-56B2-4972-B444-08E1B90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9BB-5F42-431B-81A5-14BBCA7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5DC-1E05-41AA-A6B0-921782A30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0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28600"/>
            <a:ext cx="4419720" cy="57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VIOLENT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d British colo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fasting, marches, and protests as a form of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t the media to report against the Bri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Decol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main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administrative costs needed to suppress Indian activists proved too much as England recovered from the economic devastation of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United States pressured its European ally to withdraw its colonial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3049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As you watch the clip, create the explanation for the event on the timeline assignment called Gandhi’s Salt M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’s Salt Mar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 Task -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eal-life example where you use non-violent resistance against a group, organization, or policy that you disagree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for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o to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lick 5th Marking Period, scroll down to Thursday, Week 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lick on the Timeline Websi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19:29Z</dcterms:created>
  <dc:creator>CFISD</dc:creator>
  <dc:description/>
  <dc:language>en-US</dc:language>
  <cp:lastModifiedBy>CFISD</cp:lastModifiedBy>
  <dcterms:modified xsi:type="dcterms:W3CDTF">2009-03-26T20:02:30Z</dcterms:modified>
  <cp:revision>7</cp:revision>
  <dc:subject/>
  <dc:title>Slide 1</dc:title>
</cp:coreProperties>
</file>