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69D-4277-4F8E-8EB2-F4A64722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EE3-F395-44B2-BAF6-6F3C0742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85D7-2DE8-4877-A6D6-2F0AA6C8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A1A8-7676-472F-9145-D06E42A81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565-1AC1-4C4D-A200-9E3CDC67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5B8-410C-4EB9-BFB6-6885929E5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3142-FA22-4DBB-B478-E2D0413C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C0C3-4ACE-497D-B420-8C0AA667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6FF-7606-4D5E-91E8-4F115BD94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587-FEB8-44A4-978E-959A12C1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AFAA-E3C1-47B4-9C9A-C14121E16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4D0-2589-4E5B-8A77-6B439CEAC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429EB-CDC6-4E39-A673-BC44C826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0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28600"/>
            <a:ext cx="4419720" cy="57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VIOLENT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d British colo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fasting, marches, and protests as a form of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t the media to report against the Bri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Decol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main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administrative costs needed to suppress Indian activists proved too much as England recovered from the economic devastation of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United States pressured its European ally to withdraw its colonial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3049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As you watch the clip, create the explanation for the event on the timeline assignment called Gandhi’s Salt M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’s Salt Mar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 Task -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eal-life example where you use non-violent resistance against a group, organization, or policy that you disagree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for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o to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lick 5th Marking Period, scroll down to Thursday, Week 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lick on the Timeline Websi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19:29Z</dcterms:created>
  <dc:creator>CFISD</dc:creator>
  <dc:description/>
  <dc:language>en-US</dc:language>
  <cp:lastModifiedBy>CFISD</cp:lastModifiedBy>
  <dcterms:modified xsi:type="dcterms:W3CDTF">2009-03-26T20:02:30Z</dcterms:modified>
  <cp:revision>7</cp:revision>
  <dc:subject/>
  <dc:title>Slide 1</dc:title>
</cp:coreProperties>
</file>