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74AB-758A-4E19-9029-3F2F8A26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377A-F518-4AB6-A43A-DA424269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4A9D-CAEF-48C1-9655-FFFDE6A78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E16E-9096-46BE-8016-3E0634F9C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2EC5-2BC1-431F-A039-97DB9B77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8A78-7A98-440C-946A-4D350EFB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0276-A9A6-4404-A740-DEE9BDB4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8E3C-75CA-4135-92A3-50177F95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B69E-12B7-4361-A70E-0406C46F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34B0-1711-4CA5-AE38-18CEA5B7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8D35-1175-42DE-990C-A3330B9E5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EB82-5B33-4FCA-B6F5-4956616E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6851-010F-4A96-A3C3-CBFB51F39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Tour - Google Earth T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Google Earth Tour for the Final Review She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ion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any 10 of the physical features listed on the following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ust include at least two from each of the four regions: Latin America, SW Asia, South Asia, Afric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each physical feature’s signific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hysical features required for this assignment are included on the following sl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in Am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Pamp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Panama Ca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ndes Mou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Amazon Rainfo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west A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Strait of Hormu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Suez Ca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Tigris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Euphrates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 A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Indian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Ganges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 Himalay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 Nile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 Sahara Des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. Sahel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. Great Rift Val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do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Blogging Assignment – Due last Tuesday at 11: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hina Assignment – Du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North Korea Assignment – Due right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Google Earth Tour – Due Wednesday at 730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Final Review Sheet – Due next Mon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12:18:57Z</dcterms:created>
  <dc:creator>CFISD</dc:creator>
  <dc:description/>
  <dc:language>en-US</dc:language>
  <cp:lastModifiedBy>CFISD</cp:lastModifiedBy>
  <dcterms:modified xsi:type="dcterms:W3CDTF">2009-05-29T12:38:06Z</dcterms:modified>
  <cp:revision>4</cp:revision>
  <dc:subject/>
  <dc:title>Map Tour - Google Earth Tour</dc:title>
</cp:coreProperties>
</file>