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BAE-022F-4D97-88A9-1CCFBD92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F79-315D-4B27-B4F3-37A62C60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3E1-5D7A-43CA-8171-7CD2D977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933-E6A0-4DF5-8F54-B32A4493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A9D-2EA3-4977-925A-11CB5EEA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3E3-8DBF-465C-91CB-6531800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1BF-FB4B-4665-8C66-C01C5BC4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E4A4-EE3B-4BB1-94F1-A1DAA884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579-E4E3-4C41-8535-AC7DF6DE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29E-0549-4441-BF3B-3870BD5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A72-53F9-4E23-973C-624AB71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17B-D1EB-427E-9DE4-898CCD8C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C7BD-FEFA-43C8-9DA1-DBB1339C9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our - 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for the Final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ny 10 of the physical features listed on the following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include at least two from each of the four regions: Latin America, SW Asia, South Asia,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each physical feature’s signific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features required for this assignment are included on the following sl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am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anama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ndes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azon Rain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trait of Horm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Suez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Tigri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Euphrat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Himala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Sahara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Sahel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Great Rift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logging Assignment – Due last Tuesday at 11: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ina Assignment – Du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Korea Assignment – Due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oogle Earth Tour – Due Wednesday at 7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inal Review Sheet – Due next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18:57Z</dcterms:created>
  <dc:creator>CFISD</dc:creator>
  <dc:description/>
  <dc:language>en-US</dc:language>
  <cp:lastModifiedBy>CFISD</cp:lastModifiedBy>
  <dcterms:modified xsi:type="dcterms:W3CDTF">2009-05-29T12:38:06Z</dcterms:modified>
  <cp:revision>4</cp:revision>
  <dc:subject/>
  <dc:title>Map Tour - Google Earth Tour</dc:title>
</cp:coreProperties>
</file>