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0F0A-091E-47A1-89CB-FFE27C775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5D38-1A69-46B1-A060-4448C026A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6A1E-BFD3-4E85-B56E-FAFF3B020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7AA9-A2A6-4402-AA35-FB611708D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EA82-EC8E-40B9-9964-B2731D0DE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0664-B060-4B47-B0A5-87C9A4991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8909-A6ED-4037-BED9-2DE6AB22B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1D14-DFDC-40AA-BF6D-1B9871032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D12E-ACB6-4FD2-9712-DD8812359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132C-0AF4-4A5C-8331-BC66CAFDA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1EEA-B7DC-41F7-8038-FE2C8919E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74B4-7C20-4924-97E8-CB55CFF25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956C0-D6E6-4A53-A7F4-83C6905895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p Tour - Google Earth To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re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76312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Google Earth Tour for the Final Review Shee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irection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el any 10 of the physical features listed on the following slid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must include at least two from each of the four regions: Latin America, SW Asia, South Asia, Afric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de each physical feature’s signific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hysical features required for this assignment are included on the following slid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tin Amer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The Pamp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Panama Ca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Andes Mount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Amazon Rainfor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uthwest As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Strait of Hormu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 Suez Ca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 Tigris R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 Euphrates R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uth As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. Indian Oce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. Ganges R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. Himalay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r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2. Nile R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3. Sahara Dese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4. Sahel Reg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. Great Rift Val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 do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534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Blogging Assignment – Due last Tuesday at 11:5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China Assignment – Due yester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North Korea Assignment – Due right 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Google Earth Tour – Due Wednesday at 730 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Final Review Sheet – Due next Mon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9T12:18:57Z</dcterms:created>
  <dc:creator>CFISD</dc:creator>
  <dc:description/>
  <dc:language>en-US</dc:language>
  <cp:lastModifiedBy>CFISD</cp:lastModifiedBy>
  <dcterms:modified xsi:type="dcterms:W3CDTF">2009-05-29T12:38:06Z</dcterms:modified>
  <cp:revision>4</cp:revision>
  <dc:subject/>
  <dc:title>Map Tour - Google Earth Tour</dc:title>
</cp:coreProperties>
</file>