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518B-8C32-42F4-98E7-0B18FC9B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A214-D4A7-4CC9-8B27-EAD820B1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598B-3D42-43B5-8EF2-6D7AC333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40A1-B0C7-48F2-85D4-16D300F1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5DD6-DE5E-43FF-9C7C-68452F69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EDDD-8AA3-4C10-9762-74A2453E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3B63-380B-4FFA-8359-0202DB0C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A06-36DA-4C07-8B4F-66119716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1CA3-1EA4-4B43-B866-87347CAA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B31E-DB8F-4662-ACB4-E8811BDB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9277-23E1-49C0-9BEF-12A8E795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156A-F6F9-4D15-BA80-B3634D07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3289-064B-4343-9B05-9C2058E89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Tour - Google Earth T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Google Earth Tour for the Final Review She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any 10 of the physical features listed on the following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include at least two from each of the four regions: Latin America, SW Asia, South Asia, Afr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each physical feature’s signific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hysical features required for this assignment are included on the following sl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n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Pam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anama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ndes M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Amazon Rainfo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west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Strait of Horm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Suez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Tigris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Euphrates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Indian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Ganges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 Himalay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 Nil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 Sahara Des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 Sahel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. Great Rift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do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logging Assignment – Due last Tuesday at 11: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hina Assignment – Du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 Korea Assignment – Due right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oogle Earth Tour – Due Wednesday at 7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inal Review Sheet – Due next Mon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2:18:57Z</dcterms:created>
  <dc:creator>CFISD</dc:creator>
  <dc:description/>
  <dc:language>en-US</dc:language>
  <cp:lastModifiedBy>CFISD</cp:lastModifiedBy>
  <dcterms:modified xsi:type="dcterms:W3CDTF">2009-05-29T12:38:06Z</dcterms:modified>
  <cp:revision>4</cp:revision>
  <dc:subject/>
  <dc:title>Map Tour - Google Earth Tour</dc:title>
</cp:coreProperties>
</file>