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02A-A307-461C-B14F-B19C8481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768-6AB9-42A8-BEB8-7EBF2F3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FE9-B53E-41C0-9E1A-0EBFCE0B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25A-D966-48CB-A2DD-CA9518E4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720-E878-43BF-B6E2-9FA1C7EB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CAF-D94D-4241-976A-2000A32F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E4B-A734-4868-9861-C215918D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6E7-20BE-4F08-88D8-05A6F29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FD0-CD8B-4179-9C16-1B6AC544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D41-A52D-42CD-A270-D900B9F4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F5C-65BF-4AD6-A80D-E417A37D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A1F-2C01-45E6-8878-14B5974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BC25-2BE9-48EF-AF1F-3932D089A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our - 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for the Final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ny 10 of the physical features listed on the following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at least two from each of the four regions: Latin America, SW Asia, South Asia,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each physical feature’s signific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eatures required for this assignment are included on the following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am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ndes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azon Rain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trait of Horm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Suez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igri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uphrat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Himal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Sahel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Great Rift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ogging Assignment – Due last Tuesday at 11: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ina Assignment – Du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Korea Assignment – Due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oogle Earth Tour – Due Wednesday at 7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nal Review Sheet – Due next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18:57Z</dcterms:created>
  <dc:creator>CFISD</dc:creator>
  <dc:description/>
  <dc:language>en-US</dc:language>
  <cp:lastModifiedBy>CFISD</cp:lastModifiedBy>
  <dcterms:modified xsi:type="dcterms:W3CDTF">2009-05-29T12:38:06Z</dcterms:modified>
  <cp:revision>4</cp:revision>
  <dc:subject/>
  <dc:title>Map Tour - Google Earth Tour</dc:title>
</cp:coreProperties>
</file>