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EB1-888D-466A-8539-FC81D075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690-66A7-4C5E-94DD-9E01953F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9EB-C9B0-4FF4-8E18-E67BE018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1AE4-228B-4CF8-9CB3-B230CD30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4E3-6E11-4932-B493-E1C75D07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6E5-160A-450F-A1F9-E1EE996A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31C5-E92A-496A-967F-6505EDE4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72B-3B9A-4C1E-B5EC-5C489816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ECA-AD97-4890-9DD6-4EFB4F73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4B39-CFAA-437F-8D95-9FA6DF44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9D8-0B77-44E9-A1E4-6CD98CE8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E486-B210-46E3-8367-A64E3AD1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736D-4D64-4C69-AF76-5B85E7172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ws.bbc.co.uk/2/hi/europe/7529750.st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uropean Union (E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 3 - How has the EU changed Europe economically, politically, soci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600200"/>
          <a:ext cx="8001000" cy="43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and questions below.  Use the graph on the next slide to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DE B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e Bloc – a group of countries that act together to increase their influence over world t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U’s influence is comparable to which major economic pow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a real-life situation where the EU is acting as a trade blo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14600" y="6324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P (in trillions of US doll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4700520"/>
            <a:ext cx="6327720" cy="79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573876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295280" y="78588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295280" y="1523880"/>
            <a:ext cx="6327720" cy="2857680"/>
            <a:chOff x="1295280" y="1523880"/>
            <a:chExt cx="6327720" cy="2857680"/>
          </a:xfrm>
        </p:grpSpPr>
        <p:sp>
          <p:nvSpPr>
            <p:cNvPr id="73" name=""/>
            <p:cNvSpPr/>
            <p:nvPr/>
          </p:nvSpPr>
          <p:spPr>
            <a:xfrm>
              <a:off x="1295280" y="3581280"/>
              <a:ext cx="6327720" cy="800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95280" y="2514600"/>
              <a:ext cx="434340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5280" y="1523880"/>
              <a:ext cx="236232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2860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2860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ss Domestic Product of the Top Four Economic Powers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664000" y="3581280"/>
            <a:ext cx="288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3809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EU 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2971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867280" y="327672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5334120" cy="3486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572000" y="2479680"/>
            <a:ext cx="4572000" cy="4378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3962520"/>
            <a:ext cx="350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common currency of the European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and questions below.  Use the graph on the next slide to answer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How does the Euro help trade between countries who use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Orso Dizzollars are to _____________, as Ram Bucks are to _____________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447920" y="3619440"/>
          <a:ext cx="6629400" cy="32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619440"/>
                    <a:ext cx="66294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ques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e Euro help trade between countries who us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335160" indent="-335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ATIONALISM VS. EUROPEAN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Nationalism – extreme pride in one’s own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uropean Identity – a sense of pride toward Europe as a whole, rather than one’s own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ow does nationalism divide members of the European Un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g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in Eastern Europe are paid less for doing the same work as people in Western Eur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is effect migration 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owned a business, where would you locate your secondary activities?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ckground Section -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Background page, please record the questions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ue/False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ll of Europe was unified during World War I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lain whether you agree or disagree with the statement above and wh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pean Union -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Background page, please record the ques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lanation of the E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is the EU like a clu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would a country want to jo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544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uropean Union is a group of countries whose government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's a bit like a club. To join you have to agree to follow the rules and in return you get certain benef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ountry has to pay money to be a member. They mostly do this through tax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U uses the money to change the way people live and do business in Euro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ries join because they think that they will benefit from the changes the EU mak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 THINGS THE EU WANTS TO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ttach the half-sheet titled “5 THINGS THE EU WANTS TO DO” to the bottom of your European Union – Background p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n the empty blanks, record whether each example is economic, political, social, or a combination of the th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THINGS THE EU WANTS TO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te economic and social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elp people earn enough money and get treated fai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429000" y="3276720"/>
            <a:ext cx="4419360" cy="761760"/>
            <a:chOff x="3429000" y="3276720"/>
            <a:chExt cx="4419360" cy="761760"/>
          </a:xfrm>
        </p:grpSpPr>
        <p:sp>
          <p:nvSpPr>
            <p:cNvPr id="54" name=""/>
            <p:cNvSpPr txBox="1"/>
            <p:nvPr/>
          </p:nvSpPr>
          <p:spPr>
            <a:xfrm>
              <a:off x="3429000" y="3276720"/>
              <a:ext cx="43243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conomic, Socia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29000" y="4038480"/>
              <a:ext cx="4419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embership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- How to jo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ountry must meet all the requirements of the Copenhagen Criteria to be eligible to join the EU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yze the criteria and make a case for or against Croatia’s membership.  Use the document titled Croatian Acc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sion – the process of joining an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oatia Fac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P per capita = $15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mployment Rate = 11.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fe Expectancy = 7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eracy Rate = 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ions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Use the Copenhagen criteria and answer the questions below in a PARA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uld Croatia join the European Union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your decision with at least three specific reas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y 2 – Economic, Political, and Social Effects of the European Un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itical Key Question: Why does the EU have open borders for its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nomic Key Question: Why is the EU considered a cooperative trade zon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Key Question - How has the EU forced nations to cooperate and overcome their nationalist feel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6:38:46Z</dcterms:created>
  <dc:creator>CFISD</dc:creator>
  <dc:description/>
  <dc:language>en-US</dc:language>
  <cp:lastModifiedBy>CFISD</cp:lastModifiedBy>
  <dcterms:modified xsi:type="dcterms:W3CDTF">2008-11-24T16:22:08Z</dcterms:modified>
  <cp:revision>16</cp:revision>
  <dc:subject/>
  <dc:title>European Union (EU)</dc:title>
</cp:coreProperties>
</file>