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B394-06D8-4046-A1BF-77EFA162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361A-1757-46D8-B1F8-5248583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BEA9-00B1-4049-93B5-B0E00170E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326-7159-4E92-AAE8-23FB2C16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CFD9-CC1D-4463-9A41-21853FDC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A01-5881-4789-A259-58E632AF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8CB-FCE3-41B4-B6B5-01404515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6F91-3280-47EA-8DB2-087167EA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7B1-2837-49B6-AA86-2242D089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4E5-C407-497C-B136-B62F4337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992-7DC7-4ED5-904B-8B47BEA9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39C-BE20-47D7-B2D4-D8E8797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EDC0-CB95-4F11-AA91-51D77DE60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2/hi/europe/7529750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ean Union (E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 3 - How has the EU changed Europe economically, politically, soci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73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How does the Euro help trade between countries who use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so Dizzollars are to _____________, as Ram Bucks are to 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ISM VS. EUROPE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uropean Identity 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ow does nationalism divide members of the European U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ground Section -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/False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l of Europe was unified during World War 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 whether you agree or disagree with the statement above and wh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pean Union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ion of th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EU like a cl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a country want to jo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4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 group of countries whose government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 bit like a club. To join you have to agree to follow the rules and in return you get certain bene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untry has to pay money to be a member. They mostly do this through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 uses the money to change the way people live and do business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 join because they think that they will benefit from the changes the EU m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tach the half-sheet titled “5 THINGS THE EU WANTS TO DO” to the bottom of your European Union – Background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n the empty blanks, record whether each example is economic, political, social, or a combination of the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economic and soci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p people earn enough money and get treated fai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276720"/>
            <a:ext cx="4419360" cy="761760"/>
            <a:chOff x="3429000" y="3276720"/>
            <a:chExt cx="4419360" cy="761760"/>
          </a:xfrm>
        </p:grpSpPr>
        <p:sp>
          <p:nvSpPr>
            <p:cNvPr id="54" name=""/>
            <p:cNvSpPr txBox="1"/>
            <p:nvPr/>
          </p:nvSpPr>
          <p:spPr>
            <a:xfrm>
              <a:off x="3429000" y="3276720"/>
              <a:ext cx="4324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conomic, 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038480"/>
              <a:ext cx="441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mbersh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How to jo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untry must meet all the requirements of the Copenhagen Criteria to be eligible to join the E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the criteria and make a case for or against Croatia’s membership.  Use the document titled Croatian A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on – the process of joining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atia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P per capita = $15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 Rate = 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Expectancy = 7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 Rate =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 the Copenhagen criteria and answer the questions below in a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Croatia join the European Union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your decision with at least three specific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 2 – Economic, Political, and Social Effects of the European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Key Question: Why does the EU have open borders for its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Key Question - How has the EU forced nations to cooperate and overcome their nationalist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8:46Z</dcterms:created>
  <dc:creator>CFISD</dc:creator>
  <dc:description/>
  <dc:language>en-US</dc:language>
  <cp:lastModifiedBy>CFISD</cp:lastModifiedBy>
  <dcterms:modified xsi:type="dcterms:W3CDTF">2008-11-24T16:22:08Z</dcterms:modified>
  <cp:revision>16</cp:revision>
  <dc:subject/>
  <dc:title>European Union (EU)</dc:title>
</cp:coreProperties>
</file>