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F8E-9B51-4F06-BE3D-790F9C38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5D4-E41B-4724-B323-AB6775DE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F42-519F-4C27-A438-DCB89DB7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CEC-744D-406A-AA6D-352DDC48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44D-4C26-4BFD-A2F1-451F1D5E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257-43DA-4907-A2DD-133CB8BC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C8D-AAFB-46C9-95FE-491895C3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BCA-06E9-4AF4-BE1C-878B2782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E35-06BB-40F9-AC7B-D5100A42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290-EC8B-468B-8464-04031FE0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CEE-3CAB-4A03-8A55-72F65EC4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1A2-2CAC-4F48-B8CA-2A5647EF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2655-4621-4591-ADB8-B0991B867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bbc.co.uk/2/hi/europe/7529750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ropean Union (E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 3 - How has the EU changed Europe economically, politically, soci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600200"/>
          <a:ext cx="8001000" cy="43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DE 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Bloc – a group of countries that act together to increase their influence over world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U’s influence is comparable to which major economic pow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real-life situation where the EU is acting as a trade blo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14600" y="632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(in trillions of US doll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700520"/>
            <a:ext cx="6327720" cy="79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573876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295280" y="78588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95280" y="1523880"/>
            <a:ext cx="6327720" cy="2857680"/>
            <a:chOff x="1295280" y="1523880"/>
            <a:chExt cx="6327720" cy="2857680"/>
          </a:xfrm>
        </p:grpSpPr>
        <p:sp>
          <p:nvSpPr>
            <p:cNvPr id="73" name=""/>
            <p:cNvSpPr/>
            <p:nvPr/>
          </p:nvSpPr>
          <p:spPr>
            <a:xfrm>
              <a:off x="1295280" y="3581280"/>
              <a:ext cx="6327720" cy="800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95280" y="2514600"/>
              <a:ext cx="43434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5280" y="1523880"/>
              <a:ext cx="23623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2860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286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ss Domestic Product of the Top Four Economic Powers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4000" y="3581280"/>
            <a:ext cx="28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867280" y="327672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86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0" y="2479680"/>
            <a:ext cx="4572000" cy="437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396252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common currency of the European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How does the Euro help trade between countries who use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Orso Dizzollars are to _____________, as Ram Bucks are to __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47920" y="3619440"/>
          <a:ext cx="6629400" cy="32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19440"/>
                    <a:ext cx="6629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e Euro help trade between countries who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335160" indent="-335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ATIONALISM VS. EUROPEAN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Nationalism – extreme pride in one’s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uropean Identity – a sense of pride toward Europe as a whole, rather than one’s ow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ow does nationalism divide members of the European Un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ckground Section -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Background page, please record the questions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ue/False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ll of Europe was unified during World War I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in whether you agree or disagree with the statement above and wh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pean Union -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Background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nation of the E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is the EU like a clu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would a country want to jo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544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uropean Union is a group of countries whose government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's a bit like a club. To join you have to agree to follow the rules and in return you get certain bene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untry has to pay money to be a member. They mostly do this through tax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U uses the money to change the way people live and do business in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ies join because they think that they will benefit from the changes the EU mak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 THINGS THE EU WANTS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ttach the half-sheet titled “5 THINGS THE EU WANTS TO DO” to the bottom of your European Union – Background p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n the empty blanks, record whether each example is economic, political, social, or a combination of the th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THINGS THE EU WANTS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economic and social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lp people earn enough money and get treated fai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29000" y="3276720"/>
            <a:ext cx="4419360" cy="761760"/>
            <a:chOff x="3429000" y="3276720"/>
            <a:chExt cx="4419360" cy="761760"/>
          </a:xfrm>
        </p:grpSpPr>
        <p:sp>
          <p:nvSpPr>
            <p:cNvPr id="54" name=""/>
            <p:cNvSpPr txBox="1"/>
            <p:nvPr/>
          </p:nvSpPr>
          <p:spPr>
            <a:xfrm>
              <a:off x="3429000" y="3276720"/>
              <a:ext cx="43243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conomic, Soci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000" y="4038480"/>
              <a:ext cx="4419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mbership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- How to jo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untry must meet all the requirements of the Copenhagen Criteria to be eligible to join the E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ze the criteria and make a case for or against Croatia’s membership.  Use the document titled Croatian Acc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ion – the process of joining a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atia Fa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P per capita = $15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mployment Rate = 11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fe Expectancy = 7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 Rate =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ion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Use the Copenhagen criteria and answer the questions below in a PARA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 Croatia join the European Union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your decision with at least three specific reas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y 2 – Economic, Political, and Social Effects of the European Un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tical Key Question: Why does the EU have open borders for its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Key Question: Why is the EU considered a cooperative trade z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Key Question - How has the EU forced nations to cooperate and overcome their nationalist feel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6:38:46Z</dcterms:created>
  <dc:creator>CFISD</dc:creator>
  <dc:description/>
  <dc:language>en-US</dc:language>
  <cp:lastModifiedBy>CFISD</cp:lastModifiedBy>
  <dcterms:modified xsi:type="dcterms:W3CDTF">2008-11-24T16:22:08Z</dcterms:modified>
  <cp:revision>16</cp:revision>
  <dc:subject/>
  <dc:title>European Union (EU)</dc:title>
</cp:coreProperties>
</file>