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AE7-D86B-428F-83CC-B0BC95EA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0C6-209F-4F81-B973-608BAA89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8D8-9676-43B8-ACD9-5D388905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D9C-8A12-4BB1-BFC2-E0822A4F2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C3E-FFDF-4CBA-A42B-79D75B85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617-E27E-4281-AB8F-022109BD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2DED-EA80-439F-ADFC-B4EE6BAD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82A-F283-4933-B9DE-CE6DB754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480-CC7A-47D8-BFA4-DA44EB85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F7B-3800-4F95-A8EB-818BA20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558B-F389-4A9E-B92A-466E563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E35-7557-4CC9-999A-1FCBDE22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A80B-28F6-4113-90FD-5D32EEF9D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2/hi/europe/7529750.s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ropean Union (E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 3 - How has the EU changed Europe economically, politically, soci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73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2860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 How does the Euro help trade between countries who use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Orso Dizzollars are to _____________, as Ram Bucks are to _____________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ATIONALISM VS. EUROPEAN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European Identity 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160" indent="-33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How does nationalism divide members of the European Un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ckground Section -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ue/False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ll of Europe was unified during World War I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in whether you agree or disagree with the statement above and wh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pean Union -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Background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lanation of the E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e EU like a clu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would a country want to jo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544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ropean Union is a group of countries whose government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's a bit like a club. To join you have to agree to follow the rules and in return you get certain bene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ountry has to pay money to be a member. They mostly do this through ta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U uses the money to change the way people live and do business in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ries join because they think that they will benefit from the changes the EU mak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tach the half-sheet titled “5 THINGS THE EU WANTS TO DO” to the bottom of your European Union – Background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On the empty blanks, record whether each example is economic, political, social, or a combination of the th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 THINGS THE EU WANTS TO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mote economic and social prog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elp people earn enough money and get treated fai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429000" y="3276720"/>
            <a:ext cx="4419360" cy="761760"/>
            <a:chOff x="3429000" y="3276720"/>
            <a:chExt cx="4419360" cy="761760"/>
          </a:xfrm>
        </p:grpSpPr>
        <p:sp>
          <p:nvSpPr>
            <p:cNvPr id="54" name=""/>
            <p:cNvSpPr txBox="1"/>
            <p:nvPr/>
          </p:nvSpPr>
          <p:spPr>
            <a:xfrm>
              <a:off x="3429000" y="3276720"/>
              <a:ext cx="43243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Economic, Social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4038480"/>
              <a:ext cx="4419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embership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- How to jo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untry must meet all the requirements of the Copenhagen Criteria to be eligible to join the E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yze the criteria and make a case for or against Croatia’s membership.  Use the document titled Croatian Acc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ion – the process of joining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oatia Fac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P per capita = $15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mployment Rate = 1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Expectancy = 7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eracy Rate = 9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ion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Use the Copenhagen criteria and answer the questions below in a PARAGRAP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uld Croatia join the European Union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 your decision with at least three specific reas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y 2 – Economic, Political, and Social Effects of the European Un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litical Key Question: Why does the EU have open borders for its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Key Question - How has the EU forced nations to cooperate and overcome their nationalist feel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6:38:46Z</dcterms:created>
  <dc:creator>CFISD</dc:creator>
  <dc:description/>
  <dc:language>en-US</dc:language>
  <cp:lastModifiedBy>CFISD</cp:lastModifiedBy>
  <dcterms:modified xsi:type="dcterms:W3CDTF">2008-11-24T16:22:08Z</dcterms:modified>
  <cp:revision>16</cp:revision>
  <dc:subject/>
  <dc:title>European Union (EU)</dc:title>
</cp:coreProperties>
</file>