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B52B-7ACA-40F7-85FD-A8F438A67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D24B-D02C-4A4C-846C-5614A1F2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1558-E6BA-4C91-B278-21B8ECDDE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5D2C-0191-4294-99A6-A2A784319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007D-A88A-4C1F-9FEA-7006F22E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842A-9BE7-481C-9C3C-AD104D0A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1861-A868-4061-B164-F295317A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A3D1-00C9-43BD-A55D-CFEBAFF8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9740-5615-4FB3-B7C4-C3ABD8C9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B957-9815-4B36-99C4-E18DFB66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0A8E-EF72-4C57-9986-4004AB95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BFB4-9AB1-4ECF-9031-6FE1AEBF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934A-2400-4DFA-8EDF-11EF1D133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295280"/>
          <a:ext cx="8229600" cy="5121360"/>
        </p:xfrm>
        <a:graphic>
          <a:graphicData uri="http://schemas.openxmlformats.org/drawingml/2006/table">
            <a:tbl>
              <a:tblPr/>
              <a:tblGrid>
                <a:gridCol w="1600200"/>
                <a:gridCol w="4572000"/>
                <a:gridCol w="20574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mig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rastru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Europe Unit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/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457200" y="5105520"/>
            <a:ext cx="8229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rope - Les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strial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human and physical causes/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ltural Diffu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results from col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li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Ethnic differences causes conf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graph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Comparison of Eastern Europe and Western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Un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Economic, Political, Social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rope 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tial Ques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y have different regions of Europe experienced conflict throughout histor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ow has the European Union changed Europe economically, politically, and sociall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Why is Western Europe more developed than Eastern Europ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rope Cover 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nd the next fresh page in your note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se it to create a cover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r cover page should include the follow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on Top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al Diff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graph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li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pean 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sential Questions Ch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n th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sential Questions 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280" y="533520"/>
          <a:ext cx="8839440" cy="5827680"/>
        </p:xfrm>
        <a:graphic>
          <a:graphicData uri="http://schemas.openxmlformats.org/drawingml/2006/table">
            <a:tbl>
              <a:tblPr/>
              <a:tblGrid>
                <a:gridCol w="2863800"/>
                <a:gridCol w="1784520"/>
                <a:gridCol w="2133720"/>
                <a:gridCol w="2057400"/>
              </a:tblGrid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ential Ques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iction (11/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 (Europe Test Da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etch (Europe Test Day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Why have different regions of Europe experienced conflict throughout history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Write your prediction here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How has the European Union changed Europe economically, politically, and socially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Why is Western Europe more developed than Eastern Europ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ries you need to labe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s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e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ugoslav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s: Label each of these countries on Side 2, the political map of Europ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asszon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name = cy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word = cy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1:39:23Z</dcterms:created>
  <dc:creator>CFISD</dc:creator>
  <dc:description/>
  <dc:language>en-US</dc:language>
  <cp:lastModifiedBy>CFISD</cp:lastModifiedBy>
  <dcterms:modified xsi:type="dcterms:W3CDTF">2008-11-10T14:09:21Z</dcterms:modified>
  <cp:revision>7</cp:revision>
  <dc:subject/>
  <dc:title>US and Canada</dc:title>
</cp:coreProperties>
</file>