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40BD-1C6D-45BB-BCF5-310B56E3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1EC6-FBD6-4DA8-B788-1200FAFC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21E-6E15-4DC3-939A-D75CA2C74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77F-D759-4ACB-AD76-C8D14CDAE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AA87-3968-4E9F-8F54-7F8EB91A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195-30E5-4E80-B158-A726A6E0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6859-0272-4CA9-8835-3B84CA26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F00-C03D-4F35-AA1A-D15DBC43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B3EF-A62C-4CF4-9F1D-0466BA63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D37F-1D90-49E6-9A1D-5863CD31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A13D-7422-4034-AB3F-379E3669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39C-94CB-4842-8F57-AE95CB13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34FD-6C68-4681-B8C8-24135C9FE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2136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uman and physical causes/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Dif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ults from col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Ethnic differences causes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omparison of Eastern Europe and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conomic, Political, Socia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have different regions of Europe experienced conflict throughout histo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s the European Union changed Europe economically, politically, and soci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y is Western Europe more developed than Easter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To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Dif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33520"/>
          <a:ext cx="8839440" cy="5827680"/>
        </p:xfrm>
        <a:graphic>
          <a:graphicData uri="http://schemas.openxmlformats.org/drawingml/2006/table">
            <a:tbl>
              <a:tblPr/>
              <a:tblGrid>
                <a:gridCol w="2863800"/>
                <a:gridCol w="1784520"/>
                <a:gridCol w="2133720"/>
                <a:gridCol w="20574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1/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Europe Test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Europe Test Day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y have different regions of Europe experienced conflict throughout histor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s the European Union changed Europe economically, politically, and sociall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y is Western Europe more developed than Eastern Europ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you need to labe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gosl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Label each of these countries on Side 2, the political map of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zo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name = cy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= cy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1-10T14:09:21Z</dcterms:modified>
  <cp:revision>7</cp:revision>
  <dc:subject/>
  <dc:title>US and Canada</dc:title>
</cp:coreProperties>
</file>