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06E-D11A-4EC2-9283-4126FB1A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2CF-9BAE-4A52-B79D-D970EFFD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A58-E6B0-4933-86F2-2C784324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BB3-10CE-4D18-A4CE-0645BFCD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886-8536-4404-ABBC-C35C0B80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DB0-3058-4345-9E21-4100A05A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5F1-C735-4455-B6E5-C74000D1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264-4618-4CD2-8C97-C3A3573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A1D-FAD7-4296-8ED4-8D27D46D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0AF-47F2-4741-B0A8-F1CDDA6D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F44-DAFC-4F80-A801-68C90939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107-7D97-4162-991C-9749CFB3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F12F-3C97-4F56-9863-07CC62092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3 different sets of paper on your desk (one blue, one yellow, one small slip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ish the Blue DB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oose any 2 of the documents from the yellow pa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m in your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rite the ess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urn in your blue packet, yellow packet, essay question, and essay.  Pick up a pink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y Western Europe has more $$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ster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7692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s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1219320"/>
            <a:ext cx="7632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5909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334120"/>
            <a:ext cx="784872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headings at the top of the ch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other bullet to each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get more $$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WWII Ends –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USA and Russia become super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Europe is divided along the IRON CU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80773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Directions: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066680"/>
          <a:ext cx="8001000" cy="4832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CURT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eparation between democratic Western Europe and communist Eastern Europ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What are the effects of the iron curta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219320" y="510552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7293" t="19447" r="68057" b="11113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762120"/>
            <a:ext cx="1904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ron Cu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6-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Iron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Europe is les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fit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, production, businesses controlled by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A – Landforms: SKIP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. Use p. 282 and your Europe Ma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me 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– 6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ebook (Industrial Revolution Le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p. 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Notebook under Conflict Lesson, look for Balkan Conflict, or p. 3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Northern Ireland Notes p. 3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kan Conflict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kip til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1. Ethnic Clean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Balkan conflict notes or p. 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Skip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Skip only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“Which EU members use i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the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Addition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your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What must a country have to get into the EU?  (see Copenhagen Criteria on the EU – Background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What is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Why did they create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10070" t="8334" r="50002" b="25003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5638680"/>
            <a:ext cx="2057400" cy="99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5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#9 on the Review Sheet  - CYP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Cyprus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mall island country in the Mediterranean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k Cypriots vs. Turkish Cypri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h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trying to control thei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thnocentris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not allowing them to practice their cul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86200"/>
            <a:ext cx="86868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Cyprus of your review she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urkish police beat protester"/>
          <p:cNvPicPr/>
          <p:nvPr/>
        </p:nvPicPr>
        <p:blipFill>
          <a:blip r:embed="rId2"/>
          <a:stretch/>
        </p:blipFill>
        <p:spPr>
          <a:xfrm>
            <a:off x="4343400" y="380880"/>
            <a:ext cx="4495680" cy="336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3733920"/>
            <a:ext cx="4495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ish Cops trying to beat up Greek Protesters in Cyp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52280"/>
            <a:ext cx="38862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is in the European Un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is behavior go against the Copenhagen Crit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hat should the EU do to Cyprus as a consequence for this behavi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914400"/>
          <a:ext cx="8763120" cy="54799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in your notebook titled “Europe Review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questions 1 and 2 on the following slides and answer them in your notebook as we work through the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dd more information to this page tomor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0"/>
            <a:ext cx="3657600" cy="155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did the ethnic cleansing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3886200"/>
            <a:ext cx="2438280" cy="1371600"/>
            <a:chOff x="5029200" y="3886200"/>
            <a:chExt cx="2438280" cy="1371600"/>
          </a:xfrm>
        </p:grpSpPr>
        <p:sp>
          <p:nvSpPr>
            <p:cNvPr id="53" name=""/>
            <p:cNvSpPr/>
            <p:nvPr/>
          </p:nvSpPr>
          <p:spPr>
            <a:xfrm>
              <a:off x="5029200" y="3886200"/>
              <a:ext cx="243828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114800"/>
              <a:ext cx="1523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kan Penins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86400" y="0"/>
            <a:ext cx="365760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re did the conflict between the Catholics and the Protestants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16669" t="25926" r="28475" b="11113"/>
          <a:stretch/>
        </p:blipFill>
        <p:spPr>
          <a:xfrm>
            <a:off x="0" y="36360"/>
            <a:ext cx="7924680" cy="682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91320" y="228600"/>
            <a:ext cx="3200400" cy="24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mountain range separates Spain and F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2200" y="6858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yrene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rot="1123800">
            <a:off x="2057040" y="4343040"/>
            <a:ext cx="16765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ern Europe vs. We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do you use to determine which country is the most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33920" y="1600200"/>
          <a:ext cx="5257800" cy="4525920"/>
        </p:xfrm>
        <a:graphic>
          <a:graphicData uri="http://schemas.openxmlformats.org/drawingml/2006/table">
            <a:tbl>
              <a:tblPr/>
              <a:tblGrid>
                <a:gridCol w="1455480"/>
                <a:gridCol w="1592280"/>
                <a:gridCol w="2210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Ca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Expect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 txBox="1"/>
          <p:nvPr/>
        </p:nvSpPr>
        <p:spPr>
          <a:xfrm>
            <a:off x="304920" y="4952880"/>
            <a:ext cx="31240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DP i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ptai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34:51Z</dcterms:created>
  <dc:creator>CFISD</dc:creator>
  <dc:description/>
  <dc:language>en-US</dc:language>
  <cp:lastModifiedBy>CFISD</cp:lastModifiedBy>
  <dcterms:modified xsi:type="dcterms:W3CDTF">2008-12-04T18:45:43Z</dcterms:modified>
  <cp:revision>17</cp:revision>
  <dc:subject/>
  <dc:title>Europe Review</dc:title>
</cp:coreProperties>
</file>