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2770-4C5C-4201-972A-421D3CA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0CB-0D3A-4CCC-99BE-B1E789BE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2D44-C12C-45B7-8E76-6562EEDE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0EB8-7DF4-41A3-A0D5-3F450EAD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0F1-F5F5-46B8-A9B7-36ED6134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EBC-19FD-4A99-8466-5838E5B1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F7C-0376-49E5-BC3D-4F07C976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B029-82F0-4150-8707-15C85C318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C277-630E-484D-BBDB-EA2B3777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181-D443-4798-96DA-A8F7F95A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C26C-1617-470D-8064-05A4FA7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7D59-FC9A-48E9-B045-D7615D6F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CA89-3F5A-42BD-8618-BF0D749B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3 different sets of paper on your desk (one blue, one yellow, one small slip of pa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Finish the Blue DB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oose any 2 of the documents from the yellow pap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m in your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rite the ess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tep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urn in your blue packet, yellow packet, essay question, and essay.  Pick up a pink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 Why Western Europe has more $$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 to Industrial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 during Cold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stern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876920" y="1371600"/>
            <a:ext cx="228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astern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1219320"/>
            <a:ext cx="7632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2590920"/>
            <a:ext cx="8458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8080" y="5334120"/>
            <a:ext cx="784872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l in the headings at the top of the ch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nother bullet to each s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id they get more $$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WWII Ends –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USA and Russia become super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Europe is divided along the IRON CUR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505320"/>
            <a:ext cx="8077320" cy="1752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6. Directions: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066680"/>
          <a:ext cx="8001000" cy="4832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 CURTAI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separation between democratic Western Europe and communist Eastern Europe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What are the effects of the iron curta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1219320" y="5105520"/>
            <a:ext cx="32004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 this portion blank and complete it as you go through the sli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7293" t="19447" r="68057" b="11113"/>
          <a:stretch/>
        </p:blipFill>
        <p:spPr>
          <a:xfrm>
            <a:off x="213372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04920" y="762120"/>
            <a:ext cx="19047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ron Curt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46-19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Iron Curt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ern Europe is less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fit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, production, businesses controlled by Rus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Sheet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A – Landforms: SKIP THE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. Use p. 282 and your Europe Ma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me as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– 6.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ebook (Industrial Revolution Less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p. 2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Notebook under Conflict Lesson, look for Balkan Conflict, or p. 31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. Northern Ireland Notes p. 30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kan Conflict N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kip till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i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oss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-11. Ethnic Cleans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eck Balkan conflict notes or p. 3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. EU 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. Skip the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. EU –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Skip only the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x “Which EU members use it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the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U Additional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#20, #21, and #22 on the back of your pink 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 What must a country have to get into the EU?  (see Copenhagen Criteria on the EU – Background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What is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Why did they create a trade bloc? (EU Econom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10070" t="8334" r="50002" b="25003"/>
          <a:stretch/>
        </p:blipFill>
        <p:spPr>
          <a:xfrm>
            <a:off x="0" y="1133640"/>
            <a:ext cx="9144000" cy="5724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5638680"/>
            <a:ext cx="2057400" cy="9907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2120" y="15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t #9 on the Review Sheet  - CYP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. Cyprus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small island country in the Mediterranean S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eek Cypriots vs. Turkish Cypri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h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trying to control their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thnocentrism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urks are not allowing them to practice their cultu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3886200"/>
            <a:ext cx="8686800" cy="2514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Cyprus of your review she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Turkish police beat protester"/>
          <p:cNvPicPr/>
          <p:nvPr/>
        </p:nvPicPr>
        <p:blipFill>
          <a:blip r:embed="rId2"/>
          <a:stretch/>
        </p:blipFill>
        <p:spPr>
          <a:xfrm>
            <a:off x="4343400" y="380880"/>
            <a:ext cx="4495680" cy="3365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343400" y="3733920"/>
            <a:ext cx="4495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kish Cops trying to beat up Greek Protesters in Cypr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152280"/>
            <a:ext cx="388620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prus is in the European Un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ow does this behavior go against the Copenhagen Crit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What should the EU do to Cyprus as a consequence for this behavio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28600" y="914400"/>
          <a:ext cx="8763120" cy="54799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in your notebook titled “Europe Review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questions 1 and 2 on the following slides and answer them in your notebook as we work through the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add more information to this page tomorr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486400" y="0"/>
            <a:ext cx="3657600" cy="1556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ere did the ethnic cleansing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3886200"/>
            <a:ext cx="2438280" cy="1371600"/>
            <a:chOff x="5029200" y="3886200"/>
            <a:chExt cx="2438280" cy="1371600"/>
          </a:xfrm>
        </p:grpSpPr>
        <p:sp>
          <p:nvSpPr>
            <p:cNvPr id="53" name=""/>
            <p:cNvSpPr/>
            <p:nvPr/>
          </p:nvSpPr>
          <p:spPr>
            <a:xfrm>
              <a:off x="5029200" y="3886200"/>
              <a:ext cx="2438280" cy="13716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6400" y="4114800"/>
              <a:ext cx="1523880" cy="642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lkan Peninsu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rcRect l="21528" t="8334" r="0" b="10185"/>
          <a:stretch/>
        </p:blipFill>
        <p:spPr>
          <a:xfrm>
            <a:off x="0" y="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86400" y="0"/>
            <a:ext cx="3657600" cy="2531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ere did the conflict between the Catholics and the Protestants occ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16669" t="25926" r="28475" b="11113"/>
          <a:stretch/>
        </p:blipFill>
        <p:spPr>
          <a:xfrm>
            <a:off x="0" y="36360"/>
            <a:ext cx="7924680" cy="6821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791320" y="228600"/>
            <a:ext cx="3200400" cy="24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____ mountain range separates Spain and Fr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72200" y="685800"/>
            <a:ext cx="2305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yrene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 rot="1123800">
            <a:off x="2057040" y="4343040"/>
            <a:ext cx="167652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ern Europe vs. Western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do you use to determine which country is the most develop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33920" y="1600200"/>
          <a:ext cx="5257800" cy="4525920"/>
        </p:xfrm>
        <a:graphic>
          <a:graphicData uri="http://schemas.openxmlformats.org/drawingml/2006/table">
            <a:tbl>
              <a:tblPr/>
              <a:tblGrid>
                <a:gridCol w="1455480"/>
                <a:gridCol w="1592280"/>
                <a:gridCol w="2210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Cap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fe Expect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3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b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,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"/>
          <p:cNvSpPr txBox="1"/>
          <p:nvPr/>
        </p:nvSpPr>
        <p:spPr>
          <a:xfrm>
            <a:off x="304920" y="4952880"/>
            <a:ext cx="3124080" cy="120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DP is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Captai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34:51Z</dcterms:created>
  <dc:creator>CFISD</dc:creator>
  <dc:description/>
  <dc:language>en-US</dc:language>
  <cp:lastModifiedBy>CFISD</cp:lastModifiedBy>
  <dcterms:modified xsi:type="dcterms:W3CDTF">2008-12-04T18:45:43Z</dcterms:modified>
  <cp:revision>17</cp:revision>
  <dc:subject/>
  <dc:title>Europe Review</dc:title>
</cp:coreProperties>
</file>